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617346938776"/>
          <c:y val="0.0198916408668731"/>
          <c:w val="0.923852040816327"/>
          <c:h val="0.940015479876161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ETOT (meV)</c:v>
                </c:pt>
              </c:strCache>
            </c:strRef>
          </c:tx>
          <c:spPr>
            <a:solidFill>
              <a:srgbClr val="004586"/>
            </a:solidFill>
            <a:ln w="3168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9"/>
                <c:pt idx="0">
                  <c:v>4.99887111736079</c:v>
                </c:pt>
                <c:pt idx="1">
                  <c:v>9.97369770533915</c:v>
                </c:pt>
                <c:pt idx="2">
                  <c:v>20.030319177734</c:v>
                </c:pt>
                <c:pt idx="3">
                  <c:v>49.8076440496654</c:v>
                </c:pt>
                <c:pt idx="4">
                  <c:v>100.87649372935</c:v>
                </c:pt>
                <c:pt idx="5">
                  <c:v>202.571086230382</c:v>
                </c:pt>
                <c:pt idx="6">
                  <c:v>411.20911218087</c:v>
                </c:pt>
                <c:pt idx="7">
                  <c:v>872.693757262706</c:v>
                </c:pt>
                <c:pt idx="8">
                  <c:v>161.377679917309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9"/>
                <c:pt idx="0">
                  <c:v>51.0516890494155</c:v>
                </c:pt>
                <c:pt idx="1">
                  <c:v>51.0424758666313</c:v>
                </c:pt>
                <c:pt idx="2">
                  <c:v>51.0333119538009</c:v>
                </c:pt>
                <c:pt idx="3">
                  <c:v>51.2986917010776</c:v>
                </c:pt>
                <c:pt idx="4">
                  <c:v>54.9797311982499</c:v>
                </c:pt>
                <c:pt idx="5">
                  <c:v>68.7526297505117</c:v>
                </c:pt>
                <c:pt idx="6">
                  <c:v>116.333145730925</c:v>
                </c:pt>
                <c:pt idx="7">
                  <c:v>229.702242760475</c:v>
                </c:pt>
                <c:pt idx="8">
                  <c:v>61.5147521001507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QUANTUM</c:v>
                </c:pt>
              </c:strCache>
            </c:strRef>
          </c:tx>
          <c:spPr>
            <a:solidFill>
              <a:srgbClr val="ff420e"/>
            </a:solidFill>
            <a:ln w="3168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9"/>
                <c:pt idx="0">
                  <c:v>4.99887111736079</c:v>
                </c:pt>
                <c:pt idx="1">
                  <c:v>9.97369770533915</c:v>
                </c:pt>
                <c:pt idx="2">
                  <c:v>20.030319177734</c:v>
                </c:pt>
                <c:pt idx="3">
                  <c:v>49.8076440496654</c:v>
                </c:pt>
                <c:pt idx="4">
                  <c:v>100.87649372935</c:v>
                </c:pt>
                <c:pt idx="5">
                  <c:v>202.571086230382</c:v>
                </c:pt>
                <c:pt idx="6">
                  <c:v>411.20911218087</c:v>
                </c:pt>
                <c:pt idx="7">
                  <c:v>872.693757262706</c:v>
                </c:pt>
                <c:pt idx="8">
                  <c:v>161.377679917309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9"/>
                <c:pt idx="0">
                  <c:v>51.44</c:v>
                </c:pt>
                <c:pt idx="1">
                  <c:v>51.44</c:v>
                </c:pt>
                <c:pt idx="2">
                  <c:v>51.4400001794034</c:v>
                </c:pt>
                <c:pt idx="3">
                  <c:v>51.4709171736741</c:v>
                </c:pt>
                <c:pt idx="4">
                  <c:v>53.3507802016649</c:v>
                </c:pt>
                <c:pt idx="5">
                  <c:v>67.652068793834</c:v>
                </c:pt>
                <c:pt idx="6">
                  <c:v>113.017091630091</c:v>
                </c:pt>
                <c:pt idx="7">
                  <c:v>226.21343687265</c:v>
                </c:pt>
                <c:pt idx="8">
                  <c:v>60.6084106074662</c:v>
                </c:pt>
              </c:numCache>
            </c:numRef>
          </c:yVal>
          <c:smooth val="0"/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>classique</c:v>
                </c:pt>
              </c:strCache>
            </c:strRef>
          </c:tx>
          <c:spPr>
            <a:solidFill>
              <a:srgbClr val="ffd320"/>
            </a:solidFill>
            <a:ln w="31680">
              <a:noFill/>
            </a:ln>
          </c:spP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9"/>
                <c:pt idx="0">
                  <c:v>4.99887111736079</c:v>
                </c:pt>
                <c:pt idx="1">
                  <c:v>9.97369770533915</c:v>
                </c:pt>
                <c:pt idx="2">
                  <c:v>20.030319177734</c:v>
                </c:pt>
                <c:pt idx="3">
                  <c:v>49.8076440496654</c:v>
                </c:pt>
                <c:pt idx="4">
                  <c:v>100.87649372935</c:v>
                </c:pt>
                <c:pt idx="5">
                  <c:v>202.571086230382</c:v>
                </c:pt>
                <c:pt idx="6">
                  <c:v>411.20911218087</c:v>
                </c:pt>
                <c:pt idx="7">
                  <c:v>872.693757262706</c:v>
                </c:pt>
                <c:pt idx="8">
                  <c:v>161.377679917309</c:v>
                </c:pt>
              </c:numCache>
            </c:numRef>
          </c:xVal>
          <c:yVal>
            <c:numRef>
              <c:f>3</c:f>
              <c:numCache>
                <c:formatCode>General</c:formatCode>
                <c:ptCount val="9"/>
                <c:pt idx="0">
                  <c:v>1.29184309774492</c:v>
                </c:pt>
                <c:pt idx="1">
                  <c:v>2.57747244070562</c:v>
                </c:pt>
                <c:pt idx="2">
                  <c:v>5.17637461896497</c:v>
                </c:pt>
                <c:pt idx="3">
                  <c:v>12.8716383499135</c:v>
                </c:pt>
                <c:pt idx="4">
                  <c:v>26.0692062446635</c:v>
                </c:pt>
                <c:pt idx="5">
                  <c:v>52.3498312730201</c:v>
                </c:pt>
                <c:pt idx="6">
                  <c:v>106.267523372584</c:v>
                </c:pt>
                <c:pt idx="7">
                  <c:v>225.527600191486</c:v>
                </c:pt>
                <c:pt idx="8">
                  <c:v>41.7043442482933</c:v>
                </c:pt>
              </c:numCache>
            </c:numRef>
          </c:yVal>
          <c:smooth val="0"/>
        </c:ser>
        <c:axId val="17005921"/>
        <c:axId val="8950046"/>
      </c:scatterChart>
      <c:valAx>
        <c:axId val="1700592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0046"/>
        <c:crosses val="autoZero"/>
        <c:crossBetween val="midCat"/>
      </c:valAx>
      <c:valAx>
        <c:axId val="8950046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05921"/>
        <c:crosses val="autoZero"/>
        <c:crossBetween val="midCat"/>
      </c:valAx>
      <c:spPr>
        <a:noFill/>
        <a:ln w="0">
          <a:solidFill>
            <a:srgbClr val="000000"/>
          </a:solidFill>
        </a:ln>
      </c:spPr>
    </c:plotArea>
    <c:legend>
      <c:legendPos val="r"/>
      <c:layout>
        <c:manualLayout>
          <c:xMode val="edge"/>
          <c:yMode val="edge"/>
          <c:x val="0.600127551020408"/>
          <c:y val="0.69357585139318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span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538B3E-C3F9-4B64-B989-B43F57B62E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993600" y="768240"/>
            <a:ext cx="51152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EA3-F28C-45B1-B6C5-A5055D5F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686-A52C-46BE-8938-6AB746C6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3AB-2DD0-4559-A19B-652BD24E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C93-ABC5-4295-A798-966A12C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EE9-B79B-4522-9698-3591ADBC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B71-5CC3-4669-AF50-25675D73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04C-0784-445A-B97E-C812F15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A2A-776E-4DB3-9F94-77A09EB6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EC5-2F95-443D-9990-A9D1E9B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6FA-345D-4FA1-8119-EA0B86B5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4F2-02C4-4490-806D-4FE0F6A0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1B7-790C-43DA-8CDE-934813F4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8600" bIns="486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éminaire Louvain-la-Neuve 15/07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F63B52-41CC-4A71-9DDA-41BCE4084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1640" y="1860120"/>
            <a:ext cx="734364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44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ath Integral Molecular 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42560" y="3933720"/>
            <a:ext cx="7489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2640" bIns="46800" anchor="t">
            <a:noAutofit/>
          </a:bodyPr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égory GEN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A, DAM, DIF, F-91297 Arpajon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080" y="3429000"/>
            <a:ext cx="3168720" cy="1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23920" y="1824120"/>
            <a:ext cx="777564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th Integral is an elegant way to do Quantum Mechanics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thout wave function 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B: at low temperature, the Trotter number should be cho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ery high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=&gt; one recovers the complexity of QM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49320" y="861840"/>
            <a:ext cx="765828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obtain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here                           is the density matrix in the position repres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ch a formulation implicitely assumes DISCERNABLE part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the case of INDISTINGUISHABLE particles, Z wr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) for BOS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) for FERM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052720" y="1481040"/>
                <a:ext cx="7021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func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944800" y="2192400"/>
                <a:ext cx="233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811160" y="2602080"/>
                <a:ext cx="134964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47920" y="3017880"/>
                <a:ext cx="2859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sepChr m:val="|"/>
                        <m:endChr m:val="⟩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H</m:t>
                            </m:r>
                          </m:sup>
                        </m:sSup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708280" y="4384800"/>
                <a:ext cx="3603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ρ</m:t>
                            </m:r>
                          </m:e>
                        </m:nary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708280" y="5356080"/>
                <a:ext cx="41274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F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/>
                      <m:e>
                        <m:r>
                          <m:t xml:space="preserve">ϵ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H="1">
            <a:off x="4371480" y="5221440"/>
            <a:ext cx="862200" cy="328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75360" y="5019840"/>
            <a:ext cx="241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rmutation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98480" y="1382760"/>
            <a:ext cx="599616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N PRACTISE: Primitive Approximation (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fixed 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ations are performed for fixed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servables are computed using Z</a:t>
            </a:r>
            <a:r>
              <a:rPr b="0" lang="fr-FR" sz="1800" spc="-1" strike="noStrike" baseline="-33000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i.e. in the 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ntities must be CONVERGED with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A&gt; computed from Z</a:t>
            </a:r>
            <a:r>
              <a:rPr b="0" lang="fr-FR" sz="1800" spc="-1" strike="noStrike" baseline="-33000">
                <a:solidFill>
                  <a:srgbClr val="000000"/>
                </a:solidFill>
                <a:latin typeface="Arial"/>
              </a:rPr>
              <a:t>P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mitive Estimator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927520" y="1836720"/>
                <a:ext cx="6227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≈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P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637000" y="3254400"/>
                <a:ext cx="6343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P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962440" y="2735280"/>
                <a:ext cx="1584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func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1351080"/>
            <a:ext cx="561672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Example: Energy Primitive Estim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g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783480" y="1260360"/>
                <a:ext cx="2201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ln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9520" y="4159080"/>
                <a:ext cx="86281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P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sup>
                                </m:sSubSup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V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...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d>
                    <m:r>
                      <m:t xml:space="preserve">&gt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409760" y="3792600"/>
            <a:ext cx="4846680" cy="145872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9880" y="3792600"/>
            <a:ext cx="2502000" cy="145872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79680" y="5321160"/>
            <a:ext cx="267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inetic Energy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61120" y="5321160"/>
            <a:ext cx="28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tential Energy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08400" y="2530440"/>
                <a:ext cx="6343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P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0360" y="1298520"/>
                <a:ext cx="7021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func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754280" y="2155680"/>
                <a:ext cx="71341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f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acc>
                        <m:r>
                          <m:t xml:space="preserve">...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acc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acc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d>
                                  </m:sup>
                                </m:sSup>
                                <m:r>
                                  <m:t xml:space="preserve">...</m:t>
                                </m:r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d>
                                  </m:sup>
                                </m:sSup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 flipV="1">
            <a:off x="4068720" y="2714400"/>
            <a:ext cx="858960" cy="10969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280" y="2833560"/>
                <a:ext cx="287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846520" y="3691080"/>
            <a:ext cx="276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 term grows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 P tends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7478640" y="2738160"/>
            <a:ext cx="214560" cy="10494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50200" y="3665520"/>
            <a:ext cx="1996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nds to ZERO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 tends to infin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9240" y="4475160"/>
            <a:ext cx="826308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 the limit of large P, the classical system is mai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HARMON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tandard MD algorithms such as Nose-Hoover thermost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il to correctly sample the phase space =&gt;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non ergodic traj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827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6520" y="1139760"/>
            <a:ext cx="74106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How to recover ergodicity in PIM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arx, Parrinello, J. Chem. Phys. 104, 4080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Tuckerman, Marx, Klein, Parrinello, J. Chem. Phys. 104, 5579 (19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) Thermostat chain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(Martyna, Tobias, Klein, J. Chem. Phys. 101, 4177 (199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 coordinate 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aging or normal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the corresponding scheme has been extended to the NPT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quations of PIMD in the NPT ensem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Martyna, Hugghes, Tuckerman, J. Chem. Phys. 110, 3275 (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) Alternative way: Langevin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es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827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5720" y="1158840"/>
            <a:ext cx="63658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LANGEVIN DYNA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VT: « Langevin thermosta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friction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random « Langevin » force (white no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gevin force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Quigley, Probert, Comput. Phys. Comm. 169, 322 (2005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ussian with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138640" y="1581120"/>
                <a:ext cx="32832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778120" y="2185920"/>
                <a:ext cx="6183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sSub>
                      <m:e>
                        <m:r>
                          <m:t xml:space="preserve">V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846440" y="2925720"/>
                <a:ext cx="12585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m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acc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60640" y="3622680"/>
                <a:ext cx="687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414680" y="4846680"/>
                <a:ext cx="13636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γ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δ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48160" y="5443560"/>
            <a:ext cx="1121040" cy="272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35800" y="5560920"/>
            <a:ext cx="118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me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827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1163520"/>
            <a:ext cx="3602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ample: (3D) harmonic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411280" y="1492200"/>
          <a:ext cx="5645160" cy="4651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21" name=""/>
          <p:cNvSpPr/>
          <p:nvPr/>
        </p:nvSpPr>
        <p:spPr>
          <a:xfrm>
            <a:off x="7016760" y="4888080"/>
            <a:ext cx="878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x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75440" y="4641840"/>
            <a:ext cx="90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PIM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5359320"/>
            <a:ext cx="185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erature 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68480" y="1728720"/>
            <a:ext cx="158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ergy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43800" y="1305000"/>
            <a:ext cx="135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xT = 1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76480" y="4316400"/>
            <a:ext cx="84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=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22480" y="4527720"/>
            <a:ext cx="752400" cy="328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07320" y="1905120"/>
            <a:ext cx="59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7100640" y="2021040"/>
            <a:ext cx="731880" cy="72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01680" y="1595520"/>
                <a:ext cx="2122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ℏ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51.44</m:t>
                    </m:r>
                    <m:r>
                      <m:t xml:space="preserve"> </m:t>
                    </m:r>
                    <m: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91960" y="2162160"/>
            <a:ext cx="1663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3 because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scill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827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echnical points related to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79680" y="1173240"/>
            <a:ext cx="658152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w to implement the Langevin method in the NPT ensemb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 has been formulated by Quigley and Prob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. Chem. Phys. 120, 11432 (2004); Comput. Phys. Comm. 169, 322 (20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which X is an « internal pressure » defi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028960" y="2147760"/>
                <a:ext cx="5727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t xml:space="preserve">T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039760" y="2841480"/>
                <a:ext cx="226872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065320" y="3638520"/>
                <a:ext cx="66229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h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d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xp</m:t>
                            </m:r>
                          </m:sub>
                        </m:sSub>
                        <m:r>
                          <m:t xml:space="preserve">Id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  <m:r>
                      <m:t xml:space="preserve">Id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927080" y="4729320"/>
                <a:ext cx="41943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f>
                          <m:num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bSup>
                    <m:r>
                      <m:t xml:space="preserve">−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r>
                              <m:t xml:space="preserve">'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α</m:t>
                        </m:r>
                        <m:r>
                          <m:t xml:space="preserve">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892160" y="5424480"/>
                <a:ext cx="1571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r>
                              <m:t xml:space="preserve">'</m:t>
                            </m:r>
                          </m:e>
                        </m:d>
                      </m:e>
                      <m:sub>
                        <m:r>
                          <m:t xml:space="preserve">α</m:t>
                        </m:r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622760" y="5505480"/>
            <a:ext cx="3726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bines Langevin dynamic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tyna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aro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30720" y="2057400"/>
            <a:ext cx="1528560" cy="8352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34360" y="3716280"/>
            <a:ext cx="1338120" cy="63504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5040" y="6291360"/>
            <a:ext cx="820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82720" y="10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35000" y="1171440"/>
            <a:ext cx="68994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BINIT already contains a structure adapted to PI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this structure is devoted to algorithms using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MAGES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these images are propagated at the same time, acco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 the chosen algorith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well adapted to NEB, string method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the two subroutines contained in ABINIT that control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stateimg.F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dictimg.F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rst, let us have a look at these two existing routi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46240" y="1454040"/>
            <a:ext cx="657540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work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rc Torrent (parallelization over imag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rançois Bott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essica Hermet (proton transport in oxi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ichem Dammak, labo SPMS, Ecole Centrale Pa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rc Hayoun, LSI, Ecole Polytechn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82720" y="10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44720" y="623736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12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33560" y="1170000"/>
            <a:ext cx="68025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broutine gstateimg.F90, general struct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op on itimimage (propagation of im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 itimimage=1,ntim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) loop on the images (that evolve) to compute energ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c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 idynimage=1,ndyn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sta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computed total energy, forces,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) Evolution of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edicti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679400" y="1065240"/>
            <a:ext cx="752508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ubroutine predicti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=&gt; chooses the algorithm to propagate the 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according to the value of imgmo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lect case(imgmo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se(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ll predict_copy(acell_timimage,itimimage,list_dynimage,natom,ndynimage,nimage,ntimimage,&am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&amp;     rprim_timimage,vel_timimage,xred_timimag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se(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ll predict_steepest(acell_timimage,fxcartfactor,itimimage,list_dynimage,natom,ndynimage,nimage,ntimimage,&am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&amp;     results_gs_timimage,rprim_timimage,vel_timimage,xred_timimag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se(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ll predict_string(acell_timimage,fxcartfactor,iatfix,itimimage,list_dynimage,natom,ndynimage,nimage,ntimimage,&am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&amp;     results_gs_timimage,rprim_timimage,vel_timimage,xred_timimag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case(9, 1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!    Path Integral Molecular Dynam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fr-FR" sz="1100" spc="-1" strike="noStrike">
                <a:solidFill>
                  <a:srgbClr val="ff0000"/>
                </a:solidFill>
                <a:latin typeface="Arial"/>
              </a:rPr>
              <a:t>call predict_pimd</a:t>
            </a: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(acell_timimage,fxcartfactor,itimimage,list_dynimage,natom,ndynimage,nimage,ntimimage,&am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&amp;     results_gs_timimage,rprim_timimage,vel_timimage,xred_timimage,mdpara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case defau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82720" y="10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19120" y="2106720"/>
            <a:ext cx="7545600" cy="2692440"/>
          </a:xfrm>
          <a:prstGeom prst="ellipse">
            <a:avLst/>
          </a:prstGeom>
          <a:noFill/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90760" y="4689360"/>
            <a:ext cx="7545240" cy="1370160"/>
          </a:xfrm>
          <a:prstGeom prst="ellipse">
            <a:avLst/>
          </a:prstGeom>
          <a:noFill/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1881360"/>
            <a:ext cx="1324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string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0120" y="2786040"/>
            <a:ext cx="928800" cy="493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9000" y="4149720"/>
            <a:ext cx="1409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ere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MD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0120" y="4767120"/>
            <a:ext cx="928800" cy="493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84160" y="10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03520" y="1270080"/>
            <a:ext cx="70689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IMD implemented in: SUBROUTINE predict_pimd.F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wo algorith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Langevin dyna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Nose Hoover chains + coordinate trans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 two ensem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NV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N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q: Langevin NPT uses Quigley-Probert algorith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plementation in AB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11160" y="1270080"/>
            <a:ext cx="532296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ociated keywo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oice of 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imgmov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9 (Langevin) or 13 (Nose-Hoover cha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oice of statistical ensem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optcel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0 if NVT, 2 if N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nimag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TROTT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ntimimag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number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mditem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initial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mdftem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thermostat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d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 time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gevin thermost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vi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friction coeff in the case of Langevin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4616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0792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46440" y="1422360"/>
            <a:ext cx="567684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ngevin dynamics is a powerfool way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recover ergodicity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but special care should be paid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1) Choice of random number gene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2) Choice of friction coeffic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5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4616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0792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09720" y="1206360"/>
            <a:ext cx="697068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1) Random number gen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ngevin dynamics requires random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e quality of the random number generator is crucial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ssible cho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1) in ABINIT: subroutine uniformrandom.f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2) intrinsic function of fortran = random_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3) random number generator: Z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R.Chandler, generator from G. Marsaglia and A. Zam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nnals of Appl. Probability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(1991), 462-48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est of algorithm on a long trajectory =&gt; (2) and (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ive better result than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906480" y="3282840"/>
            <a:ext cx="8102520" cy="2933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7308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38440" y="955800"/>
            <a:ext cx="733896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est way to test MD algorithm is to per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 LONG trajectory on a BIG system, b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ifficult in ab initio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remove (temporary) the ab initio part of ABINIT !!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replace it by a phenomenological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=&gt; 100 000 time steps on 1728 particles, T=300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1) Use of subroutine uniformran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16120" y="4703760"/>
            <a:ext cx="7149960" cy="144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6440" y="3726000"/>
            <a:ext cx="1487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07920" y="3654360"/>
            <a:ext cx="8166240" cy="25621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909720" y="1200240"/>
            <a:ext cx="8186760" cy="25527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859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7452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39880" y="955800"/>
            <a:ext cx="52405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2) Use of intrinsic fortran routine random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3) Use of random number generator ZB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2436840"/>
            <a:ext cx="7150320" cy="144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4919760"/>
            <a:ext cx="7150320" cy="1440"/>
          </a:xfrm>
          <a:prstGeom prst="line">
            <a:avLst/>
          </a:prstGeom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2033640"/>
            <a:ext cx="1487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6440" y="4410000"/>
            <a:ext cx="1487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859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7452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984320" y="11286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27160" y="1100160"/>
            <a:ext cx="739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to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1481040" y="120024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293920" y="3444840"/>
            <a:ext cx="5908680" cy="97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763640" y="4302000"/>
            <a:ext cx="1916280" cy="532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2440" y="4714920"/>
            <a:ext cx="171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iform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19800" y="1881360"/>
            <a:ext cx="306360" cy="1363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24600" y="1549440"/>
            <a:ext cx="65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B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32240" y="1549440"/>
            <a:ext cx="1852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ndom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113080" y="1928880"/>
            <a:ext cx="27000" cy="1211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920" y="1587600"/>
            <a:ext cx="1552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ging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iction coef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4472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0648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74800" y="954000"/>
            <a:ext cx="72406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2) Friction coeffic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angevin thermostat requires special attention to th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f the fric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ndom (Langevin) force random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osen at each step acco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 a normal law with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1/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γ roughly corresponds to the time needed to equilibrate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higher γ, the faster your system is equilibrat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γ (homogeneous to a frequency) should be chosen smaller t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characteristic phonon frequencies of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&gt; a compromise must be found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2070000" y="1909800"/>
                <a:ext cx="32832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019920" y="2820960"/>
                <a:ext cx="13636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γ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δ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6369120" y="2874960"/>
            <a:ext cx="361800" cy="36036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632040" y="2084400"/>
            <a:ext cx="362160" cy="36036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2457360"/>
            <a:ext cx="2033640" cy="541440"/>
          </a:xfrm>
          <a:prstGeom prst="line">
            <a:avLst/>
          </a:prstGeom>
          <a:ln w="36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93800" y="1359000"/>
            <a:ext cx="82422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troduction: why studying quantum effects associa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o atomic motion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 - Path Integral (PI)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I - Technical points related to Path Integral Mole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Dynamics (PIM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II – Implementation of PIMD in ABINIT, keyword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IV – Langevin PIMD, choice of random number generato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friction coeffic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V – Conclusion: in progress and futur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07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04616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0792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46440" y="1185840"/>
            <a:ext cx="630216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: PIMD with ABINIT, NVT Lange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ox of 20 H</a:t>
            </a:r>
            <a:r>
              <a:rPr b="0" lang="fr-FR" sz="18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molecules, P=20, 100 processors (// band-F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veral tests with </a:t>
            </a:r>
            <a:r>
              <a:rPr b="0" lang="fr-FR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Vi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= 2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, 1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, 2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, 5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(given in inverse atomic time un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mditemp= 2000 K; mdftemp = 1000 K, dtion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1) vis = 2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5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 0.9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165400" y="3394080"/>
            <a:ext cx="6397560" cy="2548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906640" y="4902120"/>
            <a:ext cx="5432400" cy="1800"/>
          </a:xfrm>
          <a:prstGeom prst="line">
            <a:avLst/>
          </a:prstGeom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308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46440" y="1042920"/>
            <a:ext cx="262224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2) vis = 1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 4.6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3) vis = 2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 9.3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130480" y="1380960"/>
            <a:ext cx="6356160" cy="22082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2141640" y="3841920"/>
            <a:ext cx="6369120" cy="23446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833560" y="2670120"/>
            <a:ext cx="5432400" cy="1800"/>
          </a:xfrm>
          <a:prstGeom prst="line">
            <a:avLst/>
          </a:prstGeom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33560" y="5226120"/>
            <a:ext cx="5432400" cy="1440"/>
          </a:xfrm>
          <a:prstGeom prst="line">
            <a:avLst/>
          </a:prstGeom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859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452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46440" y="1258920"/>
            <a:ext cx="642600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4) vis = 5.10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4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= 23.3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Rq: stretching vibration of H</a:t>
            </a:r>
            <a:r>
              <a:rPr b="0" lang="fr-FR" sz="1800" spc="-1" strike="noStrike" baseline="-33000">
                <a:solidFill>
                  <a:srgbClr val="000000"/>
                </a:solidFill>
                <a:latin typeface="Arial"/>
                <a:ea typeface="DejaVu Sans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molecule = 4160 cm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  <a:ea typeface="DejaVu Sans"/>
              </a:rPr>
              <a:t>-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= 125 T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700280" y="1646280"/>
            <a:ext cx="6522840" cy="28702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546280" y="3317760"/>
            <a:ext cx="5432400" cy="1800"/>
          </a:xfrm>
          <a:prstGeom prst="line">
            <a:avLst/>
          </a:prstGeom>
          <a:ln w="36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angevin P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7308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04760" y="1643040"/>
            <a:ext cx="76644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e careful to the TIME STEP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usually, systems interesting for PIMD contain LIGHT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H, He, etc) =&gt; high phonon frequ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The DEFAULT value of DTION is TOO high in such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fault value: dtion=100 (~ 2.10</a:t>
            </a:r>
            <a:r>
              <a:rPr b="0" lang="fr-FR" sz="2200" spc="-1" strike="noStrike" baseline="33000">
                <a:solidFill>
                  <a:srgbClr val="000000"/>
                </a:solidFill>
                <a:latin typeface="Arial"/>
              </a:rPr>
              <a:t>-15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046160" y="6238800"/>
            <a:ext cx="7851600" cy="18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7920" y="62928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3080" y="22860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695600" y="98280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06440" y="1422360"/>
            <a:ext cx="732492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PIMD works in NVT and NPT in the case of Lange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ynamics, in // (k-point, band, f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Nose-Hoover chains implementation in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NVT and NP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with P=1, one recovers classical dynamics =&gt; PI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lso involves classical MD (=&gt; new algorighms in ABIN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systems of intere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Li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ton transport in ox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046160" y="624060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07920" y="6294600"/>
            <a:ext cx="820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84160" y="324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3080" y="230040"/>
            <a:ext cx="1476360" cy="10414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697040" y="984240"/>
            <a:ext cx="72007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06800" y="1531800"/>
            <a:ext cx="569736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ARALLELIZ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Loop over images : highly parallelizable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currently IMPLEMENTED by M. TOR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(for all image algorith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=&gt; will provide a 4</a:t>
            </a:r>
            <a:r>
              <a:rPr b="0" lang="fr-FR" sz="2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level of // in ABI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07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92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y studying quantum effects of atomic moti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74800" y="1258920"/>
            <a:ext cx="65660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antum effects of atomic motions are import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elow the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Debye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CRUCIAL in the case of LIGHT elements, up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ery high temperatur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fr-FR" sz="2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Debye T ~ 6000 K (vibr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e: liquid down to zero K (under 1 atm) because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antum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 IMPORTANT for « ordinary solids » wi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bye temperature ~ RT or ab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5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76240" y="1258920"/>
            <a:ext cx="65898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ne way to account for quantum effects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th Integral (PI)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ased on the discretized version of Feynman's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tegral applied to the density oper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th integral for time evolution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for the canonical density operat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648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49640" y="3673440"/>
                <a:ext cx="59515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sepChr m:val="|"/>
                        <m:endChr m:val="⟩"/>
                      </m:dPr>
                      <m:e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H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ℏ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ds</m:t>
                            </m:r>
                          </m:e>
                        </m:nary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ds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236000" y="4692600"/>
                <a:ext cx="10191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β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49640" y="5248440"/>
                <a:ext cx="4335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sepChr m:val="|"/>
                        <m:endChr m:val="⟩"/>
                      </m:dPr>
                      <m:e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H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x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β</m:t>
                            </m:r>
                            <m:r>
                              <m:t xml:space="preserve">ℏ</m:t>
                            </m:r>
                          </m:sup>
                          <m:e>
                            <m:r>
                              <m:t xml:space="preserve">ds</m:t>
                            </m:r>
                          </m:e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x</m:t>
                                        </m:r>
                                      </m:num>
                                      <m:den>
                                        <m:r>
                                          <m:t xml:space="preserve">d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33640" y="1757520"/>
                <a:ext cx="68119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β</m:t>
                            </m:r>
                            <m:r>
                              <m:t xml:space="preserve">ℏ</m:t>
                            </m:r>
                          </m:sup>
                          <m:e>
                            <m:r>
                              <m:t xml:space="preserve">ds</m:t>
                            </m:r>
                          </m:e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x</m:t>
                                        </m:r>
                                      </m:num>
                                      <m:den>
                                        <m:r>
                                          <m:t xml:space="preserve">d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x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β</m:t>
                            </m:r>
                            <m:r>
                              <m:t xml:space="preserve">ℏ</m:t>
                            </m:r>
                          </m:sup>
                          <m:e>
                            <m:r>
                              <m:t xml:space="preserve">ds</m:t>
                            </m:r>
                          </m:e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x</m:t>
                                        </m:r>
                                      </m:num>
                                      <m:den>
                                        <m:r>
                                          <m:t xml:space="preserve">ds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89280" y="2530440"/>
                <a:ext cx="18064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ℏ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53280" y="2530440"/>
                <a:ext cx="14666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ℏ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 flipH="1" flipV="1">
            <a:off x="3397320" y="2284560"/>
            <a:ext cx="347760" cy="250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386400" y="2284560"/>
            <a:ext cx="347760" cy="250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5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623736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648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76240" y="1258920"/>
            <a:ext cx="363240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nonical partition fun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iscretized ver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08000" y="3384720"/>
                <a:ext cx="7021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func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19160" y="4560840"/>
                <a:ext cx="32450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vec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08000" y="5003640"/>
                <a:ext cx="5372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f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acc>
                        <m:r>
                          <m:t xml:space="preserve">...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f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...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08000" y="5400720"/>
                <a:ext cx="71344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f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acc>
                        <m:r>
                          <m:t xml:space="preserve">...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acc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acc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d>
                                  </m:sup>
                                </m:sSup>
                                <m:r>
                                  <m:t xml:space="preserve">...</m:t>
                                </m:r>
                                <m:s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d>
                                  </m:sup>
                                </m:sSup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256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95600" y="981000"/>
            <a:ext cx="720072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4720" y="6237360"/>
            <a:ext cx="785160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6480" y="629280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76240" y="1258920"/>
            <a:ext cx="39578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pring cons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 = « Trotter »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th cyclic boundary condi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200480" y="1089000"/>
                <a:ext cx="2870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67440" y="2451240"/>
            <a:ext cx="144000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248520" y="2630520"/>
                <a:ext cx="10825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224000" y="3627360"/>
            <a:ext cx="7581960" cy="97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512720" y="3781440"/>
                <a:ext cx="7021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unc>
                      <m:fName>
                        <m:limLow>
                          <m:e>
                            <m:r>
                              <m:t xml:space="preserve">lim</m:t>
                            </m:r>
                          </m:e>
                          <m:lim/>
                        </m:limLow>
                      </m:fNam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P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func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...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f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..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</m:nary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...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2720" y="5005440"/>
            <a:ext cx="8534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right member is the CLASSICAL partition function (for fixed Trotter number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f the following CLASSICAL system (of NxP partic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up to a multiplicative c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302436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95640" y="241308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44800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3280" y="183672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2000" y="3240000"/>
            <a:ext cx="17964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6600" y="3146400"/>
            <a:ext cx="49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76240" y="2930400"/>
            <a:ext cx="49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03520" y="2354400"/>
            <a:ext cx="49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2124000"/>
            <a:ext cx="49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56240" y="1655640"/>
            <a:ext cx="49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9640" y="320364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72000" y="2736720"/>
            <a:ext cx="17928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205272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345600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259236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392436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56000" y="3240000"/>
            <a:ext cx="17928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262908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52360" y="4032360"/>
            <a:ext cx="17964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06072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7640" y="356400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24360" y="2879640"/>
            <a:ext cx="17928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268360"/>
            <a:ext cx="179280" cy="1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0720" y="367200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2808360"/>
            <a:ext cx="179280" cy="1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68720" y="2484360"/>
            <a:ext cx="612720" cy="3603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24360" y="2521080"/>
            <a:ext cx="647640" cy="179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800" y="1494000"/>
            <a:ext cx="224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ample (P=4, N=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1944720"/>
            <a:ext cx="647640" cy="179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132000"/>
            <a:ext cx="648000" cy="1796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3640" y="3348000"/>
            <a:ext cx="647640" cy="179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662200" y="3313080"/>
            <a:ext cx="363600" cy="72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2879640"/>
            <a:ext cx="395280" cy="287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3672000"/>
            <a:ext cx="126036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4572000"/>
            <a:ext cx="1079280" cy="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72960" y="3119400"/>
            <a:ext cx="183960" cy="5922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123720" y="2502000"/>
            <a:ext cx="81000" cy="4633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49240" y="2836800"/>
            <a:ext cx="196920" cy="5270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9920" y="2951280"/>
            <a:ext cx="451080" cy="3855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1720" y="3747960"/>
            <a:ext cx="476280" cy="3985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12520" y="3349800"/>
            <a:ext cx="28440" cy="45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2160" y="3684600"/>
            <a:ext cx="541440" cy="3222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49200" y="3543480"/>
            <a:ext cx="247680" cy="6048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2487600"/>
            <a:ext cx="90360" cy="47628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211360" y="2693880"/>
            <a:ext cx="273240" cy="514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11720" y="1947960"/>
            <a:ext cx="68400" cy="4507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00920" y="2371680"/>
            <a:ext cx="488880" cy="3729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550200" y="2101680"/>
            <a:ext cx="234720" cy="6699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70120" y="3092400"/>
            <a:ext cx="1458720" cy="216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27400" y="2487600"/>
            <a:ext cx="839520" cy="604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65480" y="2489040"/>
            <a:ext cx="1647720" cy="51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13200" y="1909800"/>
            <a:ext cx="1379520" cy="6303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494000" y="3284280"/>
            <a:ext cx="1441440" cy="269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931840" y="2809800"/>
            <a:ext cx="839880" cy="476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772080" y="2705040"/>
            <a:ext cx="1685880" cy="106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455800" y="2127240"/>
            <a:ext cx="1303560" cy="5796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240160" y="2706840"/>
            <a:ext cx="1300320" cy="4680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52840" y="3173400"/>
            <a:ext cx="1689120" cy="1396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714760" y="3311640"/>
            <a:ext cx="839520" cy="7077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258920" y="4019400"/>
            <a:ext cx="1457280" cy="1000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1080" y="3657240"/>
            <a:ext cx="1363680" cy="968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173320" y="2978280"/>
            <a:ext cx="968400" cy="682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9920" y="2911320"/>
            <a:ext cx="1737000" cy="68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876560" y="2346480"/>
            <a:ext cx="1251000" cy="5666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11920" y="3440160"/>
            <a:ext cx="280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armonic interaction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3727440"/>
                <a:ext cx="2869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P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915160" y="4359240"/>
            <a:ext cx="325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 Real potential » divided b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189480" y="1574640"/>
            <a:ext cx="1406520" cy="3225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189480" y="2079720"/>
            <a:ext cx="1406520" cy="3222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550200" y="2475000"/>
            <a:ext cx="1046160" cy="2318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692760" y="1863720"/>
            <a:ext cx="1046160" cy="2318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8040" y="1360440"/>
            <a:ext cx="55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9320" y="1649520"/>
            <a:ext cx="55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0" y="1865160"/>
            <a:ext cx="55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93120" y="2260440"/>
            <a:ext cx="55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54000" y="5006880"/>
            <a:ext cx="70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 = « imaginary tim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mble of « quasi-particles » for fixed s = « imaginary time slic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0920" y="-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44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ath Integ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6400" y="1330200"/>
            <a:ext cx="814068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ach quantum system has, for fixed P, a classical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« CLASSICAL ISOMORPHISM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 the limit of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nite Trotter number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the physical EQUILIBRIUM proper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f the quantum system are the same as those of the classical equival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e gets directly the observables in the CANONICAL 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n be extended easily to the isothermal-isobaric (NPT) 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x: Barrat, Loubeyre, Klein, J. Chem. Phys. 90, 5644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us, the EQUILIBRIUM properties of the classical equivalent system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ached by any CLASSICAL simulation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593800" y="4898880"/>
            <a:ext cx="1843200" cy="476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57760" y="4898880"/>
            <a:ext cx="1982880" cy="438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92320" y="5389560"/>
            <a:ext cx="2857320" cy="587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82760" y="5370480"/>
            <a:ext cx="2247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te Carlo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 PI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77040" y="5365800"/>
            <a:ext cx="3222360" cy="63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57680" y="5370480"/>
            <a:ext cx="305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lecular Dynamic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PI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6237360"/>
            <a:ext cx="7851960" cy="14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1280" y="227160"/>
            <a:ext cx="1476360" cy="1041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93800" y="981000"/>
            <a:ext cx="720108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5040" y="6291360"/>
            <a:ext cx="807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4/04/2011     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Workshop Abinit 201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illabetL</dc:creator>
  <dc:description/>
  <dc:language>en-US</dc:language>
  <cp:lastModifiedBy>isabelle colinot</cp:lastModifiedBy>
  <dcterms:modified xsi:type="dcterms:W3CDTF">2011-04-12T22:09:25Z</dcterms:modified>
  <cp:revision>736</cp:revision>
  <dc:subject/>
  <dc:title>Développement d’une approche multi-échelle pour simuler le comportement de l’hydrogène sous forte sollicitation dynamique Application à la mise au point d’une cible pour l’étude des réaction de fusion pycno-nucléaires.</dc:title>
</cp:coreProperties>
</file>