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7.png" ContentType="image/png"/>
  <Override PartName="/ppt/media/image19.jpeg" ContentType="image/jpeg"/>
  <Override PartName="/ppt/media/image25.png" ContentType="image/png"/>
  <Override PartName="/ppt/media/image16.wmf" ContentType="image/x-wmf"/>
  <Override PartName="/ppt/media/image1.png" ContentType="image/png"/>
  <Override PartName="/ppt/media/image15.png" ContentType="image/png"/>
  <Override PartName="/ppt/media/image55.wmf" ContentType="image/x-wmf"/>
  <Override PartName="/ppt/media/image3.jpeg" ContentType="image/jpeg"/>
  <Override PartName="/ppt/media/image28.wmf" ContentType="image/x-wmf"/>
  <Override PartName="/ppt/media/image30.png" ContentType="image/png"/>
  <Override PartName="/ppt/media/image2.png" ContentType="image/png"/>
  <Override PartName="/ppt/media/image9.jpeg" ContentType="image/jpeg"/>
  <Override PartName="/ppt/media/image48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29.png" ContentType="image/png"/>
  <Override PartName="/ppt/media/image32.wmf" ContentType="image/x-wmf"/>
  <Override PartName="/ppt/media/image34.wmf" ContentType="image/x-wmf"/>
  <Override PartName="/ppt/media/image35.wmf" ContentType="image/x-wmf"/>
  <Override PartName="/ppt/media/image37.wmf" ContentType="image/x-wmf"/>
  <Override PartName="/ppt/media/image54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33.wmf" ContentType="image/x-wmf"/>
  <Override PartName="/ppt/media/image46.png" ContentType="image/png"/>
  <Override PartName="/ppt/media/image42.png" ContentType="image/png"/>
  <Override PartName="/ppt/media/image52.png" ContentType="image/png"/>
  <Override PartName="/ppt/media/image13.wmf" ContentType="image/x-wmf"/>
  <Override PartName="/ppt/media/image5.png" ContentType="image/png"/>
  <Override PartName="/ppt/media/image38.png" ContentType="image/png"/>
  <Override PartName="/ppt/media/image8.jpeg" ContentType="image/jpeg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11.wmf" ContentType="image/x-wmf"/>
  <Override PartName="/ppt/media/image31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4.wmf" ContentType="image/x-wmf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5016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722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4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5016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722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8800" y="1400040"/>
            <a:ext cx="7315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5016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722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4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5016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722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1400040"/>
            <a:ext cx="7315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295280" y="1752480"/>
            <a:ext cx="7848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4cc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613560"/>
            <a:ext cx="9144000" cy="398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oretical approaches to the temperature and zero-point motion effects of the electronic band structure of semiconducto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13 april 2011</a:t>
            </a: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74600" y="289080"/>
            <a:ext cx="1260360" cy="4870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874880" y="174600"/>
            <a:ext cx="99864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613560"/>
            <a:ext cx="9144000" cy="398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oretical approaches to the temperature and zero-point motion effects of the electronic band structure of semiconducto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          13 april 2011</a:t>
            </a:r>
            <a:endParaRPr b="0" lang="en-US" sz="1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31600" y="2334960"/>
            <a:ext cx="5715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4600" y="289080"/>
            <a:ext cx="1260360" cy="487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874880" y="174600"/>
            <a:ext cx="998640" cy="790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b4cce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b4cce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b4cce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png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14360" y="1736280"/>
            <a:ext cx="7307280" cy="17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heoretical approaches to the temperature and zero-point motion effects of the electronic band structure of semiconductor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994040" y="3740040"/>
            <a:ext cx="52052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808"/>
                </a:solidFill>
                <a:latin typeface="Times New Roman"/>
              </a:rPr>
              <a:t>Paul  Boulanger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528d5"/>
                </a:solidFill>
                <a:latin typeface="Times New Roman"/>
              </a:rPr>
              <a:t>Xavier Gonze</a:t>
            </a:r>
            <a:r>
              <a:rPr b="0" lang="fr-BE" sz="2000" spc="-1" strike="noStrike">
                <a:solidFill>
                  <a:srgbClr val="000808"/>
                </a:solidFill>
                <a:latin typeface="Times New Roman"/>
              </a:rPr>
              <a:t> and </a:t>
            </a:r>
            <a:r>
              <a:rPr b="0" lang="fr-BE" sz="2000" spc="-1" strike="noStrike">
                <a:solidFill>
                  <a:srgbClr val="cb0601"/>
                </a:solidFill>
                <a:latin typeface="Times New Roman"/>
              </a:rPr>
              <a:t>Samuel Poncé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808"/>
                </a:solidFill>
                <a:latin typeface="Times New Roman"/>
              </a:rPr>
              <a:t>Université Catholique de Louvai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528d5"/>
                </a:solidFill>
                <a:latin typeface="Times New Roman"/>
              </a:rPr>
              <a:t>Michel Côté </a:t>
            </a: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fr-BE" sz="2000" spc="-1" strike="noStrike">
                <a:solidFill>
                  <a:srgbClr val="0528d5"/>
                </a:solidFill>
                <a:latin typeface="Times New Roman"/>
              </a:rPr>
              <a:t> </a:t>
            </a:r>
            <a:r>
              <a:rPr b="0" lang="fr-BE" sz="2000" spc="-1" strike="noStrike">
                <a:solidFill>
                  <a:srgbClr val="cb0601"/>
                </a:solidFill>
                <a:latin typeface="Times New Roman"/>
              </a:rPr>
              <a:t>Gabriel Antoniu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808"/>
                </a:solidFill>
                <a:latin typeface="Times New Roman"/>
              </a:rPr>
              <a:t>Université de Montréa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 u="sng">
                <a:solidFill>
                  <a:srgbClr val="0033cc"/>
                </a:solidFill>
                <a:uFillTx/>
                <a:latin typeface="Times New Roman"/>
              </a:rPr>
              <a:t>paul.boulanger@umontreal.ca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4968720"/>
            <a:ext cx="229248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91320" y="5129280"/>
            <a:ext cx="19699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66960" y="5549760"/>
            <a:ext cx="3628800" cy="79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427040" y="4340160"/>
            <a:ext cx="2502000" cy="57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080" y="372420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oñcik theory: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280" y="4419720"/>
            <a:ext cx="32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Times New Roman"/>
              </a:rPr>
              <a:t>Electrons in a weak potential 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24240" y="4543560"/>
            <a:ext cx="609840" cy="101520"/>
          </a:xfrm>
          <a:prstGeom prst="rightArrow">
            <a:avLst>
              <a:gd name="adj1" fmla="val 50000"/>
              <a:gd name="adj2" fmla="val 150177"/>
            </a:avLst>
          </a:prstGeom>
          <a:solidFill>
            <a:srgbClr val="1838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1360" y="502920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Times New Roman"/>
              </a:rPr>
              <a:t>Debye-Waller coefficient for the form-factor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73600" y="5978520"/>
            <a:ext cx="1174680" cy="88920"/>
          </a:xfrm>
          <a:prstGeom prst="rightArrow">
            <a:avLst>
              <a:gd name="adj1" fmla="val 50000"/>
              <a:gd name="adj2" fmla="val 33026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97640" y="548640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904000" y="5400720"/>
            <a:ext cx="324000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407960" y="1465200"/>
            <a:ext cx="5216760" cy="1135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52200" y="97164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n theory (Many Body self-energy):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06720" y="2951280"/>
            <a:ext cx="723960" cy="131760"/>
          </a:xfrm>
          <a:prstGeom prst="rightArrow">
            <a:avLst>
              <a:gd name="adj1" fmla="val 50000"/>
              <a:gd name="adj2" fmla="val 13736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4022640" y="2576520"/>
            <a:ext cx="35974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58880" y="1263600"/>
            <a:ext cx="6397560" cy="5303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11280" y="1163520"/>
            <a:ext cx="46692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49480" y="4068720"/>
            <a:ext cx="6146640" cy="2151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324080" y="1376280"/>
            <a:ext cx="7046640" cy="34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233360" y="1747800"/>
            <a:ext cx="7550280" cy="2268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70000" y="615780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. Giustino, F. Louie and M.L. Cohen, Physical Review Letter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5, 265501 (2010)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13000" y="1336680"/>
            <a:ext cx="70387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398600" y="1376280"/>
            <a:ext cx="6578640" cy="701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95440" y="2333520"/>
                <a:ext cx="3297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  <m:r>
                              <m:t xml:space="preserve">κ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363680" y="3643200"/>
                <a:ext cx="57182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sub>
                          <m:sup/>
                          <m:e/>
                        </m:nary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κ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κ</m:t>
                        </m:r>
                      </m:e>
                    </m:eqAr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κ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κ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235680" y="56530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Arial"/>
              </a:rPr>
              <a:t>: self-consistent total potentia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39920" y="5567400"/>
                <a:ext cx="19764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c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x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736920" y="50911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63720" y="2324160"/>
            <a:ext cx="78022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25400" y="3890880"/>
                <a:ext cx="7939080" cy="26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335320" y="2333520"/>
                <a:ext cx="4782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ε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  <m:r>
                              <m:t xml:space="preserve">κ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Δε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  <m:r>
                              <m:t xml:space="preserve">κ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90960" y="1536840"/>
            <a:ext cx="54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done because using the Acoustic Sum Rule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1720" y="3193920"/>
            <a:ext cx="55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rewrite the site-diagonal Debye-Waller term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57200" y="1359000"/>
            <a:ext cx="7444080" cy="360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11360" y="4662360"/>
            <a:ext cx="7226280" cy="1908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262400" y="1849320"/>
            <a:ext cx="4548240" cy="1009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798480" y="2790720"/>
            <a:ext cx="7083360" cy="1908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103400" y="1879560"/>
            <a:ext cx="30765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828440" y="2984040"/>
            <a:ext cx="3505320" cy="23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06520" y="2347920"/>
                <a:ext cx="51069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κα</m:t>
                        </m:r>
                      </m:sub>
                      <m:sup/>
                      <m:e>
                        <m:r>
                          <m:t xml:space="preserve">⟨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k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|</m:t>
                        </m:r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κα</m:t>
                            </m:r>
                          </m:sub>
                        </m:sSub>
                      </m:e>
                    </m:nary>
                    <m:r>
                      <m:t xml:space="preserve">|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⟩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325520" y="4927680"/>
                <a:ext cx="61992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</m:sub>
                        </m:sSub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κβ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|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|</m:t>
                            </m:r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κβ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⟩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414360" y="3884760"/>
            <a:ext cx="87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Basically, we are building the first order wavefunctions using the unperturbed wavefunctions as basis: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4920" y="150336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This is (roughly) just: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52480" y="1338120"/>
            <a:ext cx="6346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Context: Semi-empirical AHC theory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00"/>
                </a:solidFill>
                <a:latin typeface="Times New Roman"/>
              </a:rPr>
              <a:t>The New DFPT formalism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Validation: Diatomic molecules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Validation: Silicon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Future Work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Conclusion 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5320" y="1819440"/>
            <a:ext cx="62881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88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d60000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Context: Semi-empirical AHC theory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The New DFPT formalism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Validation: Diatomic molecules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Validation: Silicon 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Future Work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Conclusion 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98440" y="1650960"/>
            <a:ext cx="7945560" cy="3941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448080" y="5832360"/>
            <a:ext cx="3843360" cy="630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5794200"/>
            <a:ext cx="459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Or we solve the self-consistent Sternheimer equation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61960" y="2692440"/>
                <a:ext cx="5424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βδ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⟨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βδ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⟨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δ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503440" y="3502080"/>
                <a:ext cx="5262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⟨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β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⟨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83000" y="4246560"/>
                <a:ext cx="37638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γ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cc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⟨</m:t>
                            </m:r>
                            <m:sSubSup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|</m:t>
                            </m:r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|</m:t>
                            </m:r>
                            <m:sSubSup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sSubSup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|</m:t>
                            </m:r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|</m:t>
                            </m:r>
                            <m:sSubSup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⟩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371600" y="141444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Using the DFPT framework, we find a variational expression for the second order eigenvalues: 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37640" y="588024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0601"/>
                </a:solidFill>
                <a:latin typeface="Times New Roman"/>
              </a:rPr>
              <a:t>Only occupied bands !!!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3737000">
            <a:off x="3144600" y="5351400"/>
            <a:ext cx="943200" cy="361800"/>
          </a:xfrm>
          <a:prstGeom prst="rightArrow">
            <a:avLst>
              <a:gd name="adj1" fmla="val 50000"/>
              <a:gd name="adj2" fmla="val 65174"/>
            </a:avLst>
          </a:prstGeom>
          <a:solidFill>
            <a:srgbClr val="cb0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70040" y="3156120"/>
                <a:ext cx="6646680" cy="103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iag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Nω</m:t>
                            </m:r>
                          </m:e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ακ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βκ</m:t>
                        </m:r>
                        <m:r>
                          <m:t xml:space="preserve">'</m:t>
                        </m:r>
                      </m:sub>
                      <m:sup/>
                      <m:e>
                        <m:r>
                          <m:t xml:space="preserve">⟨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κ</m:t>
                        </m:r>
                        <m:r>
                          <m:t xml:space="preserve">)</m:t>
                        </m:r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κ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⟩</m:t>
                        </m:r>
                      </m:e>
                    </m:nary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440" y="4513320"/>
                <a:ext cx="91425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κ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κ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κ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κ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κ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κ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i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κ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κ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κ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κ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κ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κ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119320" y="1071720"/>
            <a:ext cx="70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All previous simulations used the “</a:t>
            </a:r>
            <a:r>
              <a:rPr b="1" lang="en-US" sz="2800" spc="-1" strike="noStrike">
                <a:solidFill>
                  <a:srgbClr val="d60000"/>
                </a:solidFill>
                <a:latin typeface="Times New Roman"/>
              </a:rPr>
              <a:t>Rigid-ion approximation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6000" y="2097000"/>
            <a:ext cx="74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FPT is not bound to such an approximation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541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Term is related to the electron density redistribution on one atom, when we displace a neighboring atom. 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355720" y="3127320"/>
            <a:ext cx="559080" cy="393840"/>
          </a:xfrm>
          <a:prstGeom prst="line">
            <a:avLst/>
          </a:prstGeom>
          <a:ln w="38160">
            <a:solidFill>
              <a:srgbClr val="d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880" y="2644920"/>
            <a:ext cx="47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00"/>
                </a:solidFill>
                <a:latin typeface="Times New Roman"/>
              </a:rPr>
              <a:t>Third derivative of the total energy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93920" y="139392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was implemented in two main subroutines: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79040" y="255096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72_response/eig2tot.F90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24600" y="2612880"/>
            <a:ext cx="928440" cy="347760"/>
          </a:xfrm>
          <a:prstGeom prst="rightArrow">
            <a:avLst>
              <a:gd name="adj1" fmla="val 50000"/>
              <a:gd name="adj2" fmla="val 66744"/>
            </a:avLst>
          </a:prstGeom>
          <a:solidFill>
            <a:srgbClr val="052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4560" y="22716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_EIGR2D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00240" y="207648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8d5"/>
                </a:solidFill>
                <a:latin typeface="Times New Roman"/>
              </a:rPr>
              <a:t>In ABINIT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82520" y="50212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601"/>
                </a:solidFill>
                <a:latin typeface="Times New Roman"/>
              </a:rPr>
              <a:t>In ANADDB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9520" y="55324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601"/>
                </a:solidFill>
                <a:latin typeface="Times New Roman"/>
              </a:rPr>
              <a:t>77_response/thmeig.F90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11840" y="5594400"/>
            <a:ext cx="928440" cy="347760"/>
          </a:xfrm>
          <a:prstGeom prst="rightArrow">
            <a:avLst>
              <a:gd name="adj1" fmla="val 50000"/>
              <a:gd name="adj2" fmla="val 66744"/>
            </a:avLst>
          </a:prstGeom>
          <a:solidFill>
            <a:srgbClr val="cb0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15840" y="50785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_TB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04680" y="55911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_G2F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34720" y="27129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_EIGI2D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0040" y="3278160"/>
            <a:ext cx="3829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8d5"/>
                </a:solidFill>
                <a:latin typeface="Times New Roman"/>
              </a:rPr>
              <a:t>Important variables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8d5"/>
                </a:solidFill>
                <a:latin typeface="Times New Roman"/>
              </a:rPr>
              <a:t>ieig2rf    1    DFPT formalism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8d5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528d5"/>
                </a:solidFill>
                <a:latin typeface="Times New Roman"/>
              </a:rPr>
              <a:t>2    AHC  formalism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8d5"/>
                </a:solidFill>
                <a:latin typeface="Times New Roman"/>
              </a:rPr>
              <a:t>smdelta  1    calculation of lifetime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99680" y="3178080"/>
            <a:ext cx="145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8d5"/>
                </a:solidFill>
                <a:latin typeface="Times New Roman"/>
              </a:rPr>
              <a:t>Tests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8d5"/>
                </a:solidFill>
                <a:latin typeface="Times New Roman"/>
              </a:rPr>
              <a:t>V5/26,27,28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8d5"/>
                </a:solidFill>
                <a:latin typeface="Times New Roman"/>
              </a:rPr>
              <a:t>V6/60,61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393920" y="139392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was implemented in two main subroutines: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79040" y="247968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72_response/eig2tot.F90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24600" y="2541600"/>
            <a:ext cx="928440" cy="347760"/>
          </a:xfrm>
          <a:prstGeom prst="rightArrow">
            <a:avLst>
              <a:gd name="adj1" fmla="val 50000"/>
              <a:gd name="adj2" fmla="val 66744"/>
            </a:avLst>
          </a:prstGeom>
          <a:solidFill>
            <a:srgbClr val="0528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14560" y="22003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_EIGR2D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00240" y="20048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8d5"/>
                </a:solidFill>
                <a:latin typeface="Times New Roman"/>
              </a:rPr>
              <a:t>In ABINIT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57400" y="316404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601"/>
                </a:solidFill>
                <a:latin typeface="Times New Roman"/>
              </a:rPr>
              <a:t>In ANADDB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84280" y="37036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601"/>
                </a:solidFill>
                <a:latin typeface="Times New Roman"/>
              </a:rPr>
              <a:t>77_response/thmeig.F90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86360" y="3736800"/>
            <a:ext cx="928800" cy="347760"/>
          </a:xfrm>
          <a:prstGeom prst="rightArrow">
            <a:avLst>
              <a:gd name="adj1" fmla="val 50000"/>
              <a:gd name="adj2" fmla="val 66770"/>
            </a:avLst>
          </a:prstGeom>
          <a:solidFill>
            <a:srgbClr val="cb0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90720" y="32209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_ep_TB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79200" y="3733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_ep_G2F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34720" y="26416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8d5"/>
                </a:solidFill>
                <a:latin typeface="Times New Roman"/>
              </a:rPr>
              <a:t>_EIGI2D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336920"/>
            <a:ext cx="491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Important variables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Thmflg       3              Temperature correction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ntemper     1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tempermin 10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temperinc   10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a2fsmear    0.00008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35920" y="4556160"/>
            <a:ext cx="113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Tests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V5/28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V6/60,61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52680"/>
            <a:ext cx="7042320" cy="4044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659640" y="398520"/>
            <a:ext cx="24843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92200" y="1704960"/>
            <a:ext cx="675972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11240" y="1411200"/>
            <a:ext cx="6346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Thermal expansion contribution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Context: Semi-empirical AHC theory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The New DFPT formalism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00"/>
                </a:solidFill>
                <a:latin typeface="Times New Roman"/>
              </a:rPr>
              <a:t>Results: Diatomic molecules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Results: Silicon and diamond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Future Work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Conclusion 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96120" y="253044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to test the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implemen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cb0601"/>
                </a:solidFill>
                <a:latin typeface="Times New Roman"/>
              </a:rPr>
              <a:t>approximations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8200" y="36370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ems: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16720" y="4287960"/>
            <a:ext cx="517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tomic molecules: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 and LiF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94760" y="507672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course, Silico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80000" y="5070600"/>
            <a:ext cx="3724200" cy="1203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024360" y="2335320"/>
            <a:ext cx="4413240" cy="2185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46200" y="1366920"/>
            <a:ext cx="690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Arial"/>
              </a:rPr>
              <a:t>Discrete eigenvalues : Molecular Orbital Theory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2320" y="455760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Arial"/>
              </a:rPr>
              <a:t>Dynamic properties: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3960" y="5130720"/>
            <a:ext cx="28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183883"/>
                </a:solidFill>
                <a:latin typeface="Arial"/>
                <a:ea typeface="Arial"/>
              </a:rPr>
              <a:t>3 translations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Arial"/>
              </a:rPr>
              <a:t>● </a:t>
            </a:r>
            <a:r>
              <a:rPr b="1" lang="en-US" sz="2800" spc="-1" strike="noStrike">
                <a:solidFill>
                  <a:srgbClr val="183883"/>
                </a:solidFill>
                <a:latin typeface="Arial"/>
              </a:rPr>
              <a:t>2 rotations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Arial"/>
              </a:rPr>
              <a:t>● </a:t>
            </a:r>
            <a:r>
              <a:rPr b="1" lang="en-US" sz="2800" spc="-1" strike="noStrike">
                <a:solidFill>
                  <a:srgbClr val="183883"/>
                </a:solidFill>
                <a:latin typeface="Arial"/>
              </a:rPr>
              <a:t>1 vibration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89440" y="40068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573960" y="4000680"/>
            <a:ext cx="2155680" cy="1901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316560" y="1173240"/>
            <a:ext cx="2459160" cy="1844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701160" y="59547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Transistor :  1947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56480" y="61070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Laser: ~1960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81760" y="32083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LED introduced as practical electrical component: ~1962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914400" y="4363920"/>
            <a:ext cx="1852560" cy="1163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65040" y="56800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Photovoltaïcs effect : ~1839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3883"/>
                </a:solidFill>
                <a:latin typeface="Arial"/>
              </a:rPr>
              <a:t>Solar Cells :  ~1883                        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62240" y="1409760"/>
            <a:ext cx="35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0601"/>
                </a:solidFill>
                <a:latin typeface="Times New Roman"/>
              </a:rPr>
              <a:t>Why semiconductors?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1480" y="2035080"/>
            <a:ext cx="494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8388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83883"/>
                </a:solidFill>
                <a:latin typeface="Times New Roman"/>
              </a:rPr>
              <a:t>Honestly: Problem is easily tackled with the adiabatic approximation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388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Times New Roman"/>
              </a:rPr>
              <a:t>Practically: Interesting materials with broad application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864400" y="871560"/>
            <a:ext cx="3279600" cy="1058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247760" y="1308240"/>
            <a:ext cx="455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Write the electronic Eigen energies as a Taylor series on the bond length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111640" y="2994120"/>
            <a:ext cx="4032360" cy="3357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400800" y="2087640"/>
            <a:ext cx="2128680" cy="84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544760" y="2022480"/>
                <a:ext cx="43527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Δ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Δ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704520" y="3087720"/>
            <a:ext cx="34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83883"/>
                </a:solidFill>
                <a:uFillTx/>
                <a:latin typeface="Times New Roman"/>
              </a:rPr>
              <a:t>Quantum harmonic oscillator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06320" y="3457440"/>
                <a:ext cx="31543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μω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 flipV="1">
            <a:off x="2336760" y="4140360"/>
            <a:ext cx="152280" cy="317520"/>
          </a:xfrm>
          <a:prstGeom prst="line">
            <a:avLst/>
          </a:prstGeom>
          <a:ln w="38160">
            <a:solidFill>
              <a:srgbClr val="d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87320" y="4435560"/>
            <a:ext cx="26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00"/>
                </a:solidFill>
                <a:latin typeface="Times New Roman"/>
              </a:rPr>
              <a:t>Bose-Einstein distributio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405240" y="4218120"/>
            <a:ext cx="63360" cy="241200"/>
          </a:xfrm>
          <a:prstGeom prst="line">
            <a:avLst/>
          </a:prstGeom>
          <a:ln w="38160">
            <a:solidFill>
              <a:srgbClr val="d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41480" y="4397400"/>
            <a:ext cx="22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00"/>
                </a:solidFill>
                <a:latin typeface="Times New Roman"/>
              </a:rPr>
              <a:t>Zero-Point Motio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09520" y="5295960"/>
                <a:ext cx="46371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μω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08080" y="4433760"/>
                <a:ext cx="86598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diag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ℏ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ω</m:t>
                            </m:r>
                          </m:e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⟨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n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|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n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⟨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n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|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n</m:t>
                                </m:r>
                                <m:r>
                                  <m:t xml:space="preserve">⟩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n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ℏ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ω</m:t>
                            </m:r>
                          </m:e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675400" y="1816200"/>
            <a:ext cx="3279600" cy="1058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74892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80520" y="211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4280" y="1481040"/>
            <a:ext cx="45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the adiabatic perturbation theory states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816200" y="2300400"/>
            <a:ext cx="3076560" cy="836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987480" y="362736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only one vibrational mode:   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04760" y="2143080"/>
            <a:ext cx="5705640" cy="4408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297080" y="1362240"/>
            <a:ext cx="7846920" cy="1412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730680" y="2235240"/>
            <a:ext cx="3920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95560" y="2500200"/>
            <a:ext cx="451080" cy="2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62400" y="1954080"/>
            <a:ext cx="66852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32520" y="1889280"/>
            <a:ext cx="49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5b91"/>
                </a:solidFill>
                <a:latin typeface="Times New Roman"/>
              </a:rPr>
              <a:t>H</a:t>
            </a:r>
            <a:r>
              <a:rPr b="1" lang="en-US" sz="1600" spc="-1" strike="noStrike" baseline="-25000">
                <a:solidFill>
                  <a:srgbClr val="365b91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365b91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53160" y="2008080"/>
            <a:ext cx="39204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63520" y="2157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5b91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5240" y="23875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5b91"/>
                </a:solidFill>
                <a:latin typeface="Times New Roman"/>
              </a:rPr>
              <a:t>2 min.</a:t>
            </a:r>
            <a:endParaRPr b="0" lang="en-US" sz="16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3456000"/>
            <a:ext cx="29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AHC (2000 bands):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183883"/>
                </a:solidFill>
                <a:latin typeface="Arial"/>
              </a:rPr>
              <a:t>18 hour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07120" y="4778280"/>
            <a:ext cx="29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00"/>
                </a:solidFill>
                <a:latin typeface="Arial"/>
              </a:rPr>
              <a:t>DFPT (10 bands):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d60000"/>
                </a:solidFill>
                <a:latin typeface="Arial"/>
              </a:rPr>
              <a:t>2 minute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14400" y="2206800"/>
            <a:ext cx="29606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378080" y="1360440"/>
            <a:ext cx="6794280" cy="1863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592280" y="3489480"/>
            <a:ext cx="75517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1030320" y="1727280"/>
          <a:ext cx="7315200" cy="4778280"/>
        </p:xfrm>
        <a:graphic>
          <a:graphicData uri="http://schemas.openxmlformats.org/drawingml/2006/table">
            <a:tbl>
              <a:tblPr/>
              <a:tblGrid>
                <a:gridCol w="1166760"/>
                <a:gridCol w="1478160"/>
                <a:gridCol w="1581120"/>
                <a:gridCol w="1622160"/>
                <a:gridCol w="146700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2949480"/>
                          <a:tab algn="l" pos="5899320"/>
                          <a:tab algn="l" pos="8848800"/>
                        </a:tabLst>
                      </a:pPr>
                      <a:endParaRPr b="0" lang="en-US" sz="18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183883"/>
                      </a:solidFill>
                    </a:lnR>
                    <a:lnT>
                      <a:noFill/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fr-FR" sz="1400" spc="-1" strike="noStrike" baseline="-25000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(Ha/bohr</a:t>
                      </a:r>
                      <a:r>
                        <a:rPr b="1" lang="fr-FR" sz="1400" spc="-1" strike="noStrike" baseline="30000">
                          <a:solidFill>
                            <a:srgbClr val="183883"/>
                          </a:solidFill>
                          <a:latin typeface="Arial"/>
                        </a:rPr>
                        <a:t>2</a:t>
                      </a: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1" lang="fr-FR" sz="1400" spc="-1" strike="noStrike" baseline="-25000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(Ha/bohr</a:t>
                      </a:r>
                      <a:r>
                        <a:rPr b="1" lang="fr-FR" sz="1400" spc="-1" strike="noStrike" baseline="30000">
                          <a:solidFill>
                            <a:srgbClr val="183883"/>
                          </a:solidFill>
                          <a:latin typeface="Arial"/>
                        </a:rPr>
                        <a:t>2 </a:t>
                      </a: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CO </a:t>
                      </a: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(Ha/bohr</a:t>
                      </a:r>
                      <a:r>
                        <a:rPr b="1" lang="fr-FR" sz="1400" spc="-1" strike="noStrike" baseline="30000">
                          <a:solidFill>
                            <a:srgbClr val="183883"/>
                          </a:solidFill>
                          <a:latin typeface="Arial"/>
                        </a:rPr>
                        <a:t>2</a:t>
                      </a: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LiF </a:t>
                      </a: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(Ha/bohr</a:t>
                      </a:r>
                      <a:r>
                        <a:rPr b="1" lang="fr-FR" sz="1400" spc="-1" strike="noStrike" baseline="30000">
                          <a:solidFill>
                            <a:srgbClr val="183883"/>
                          </a:solidFill>
                          <a:latin typeface="Arial"/>
                        </a:rPr>
                        <a:t>2</a:t>
                      </a:r>
                      <a:r>
                        <a:rPr b="1" lang="fr-FR" sz="14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DDW +FAN</a:t>
                      </a:r>
                      <a:endParaRPr b="0" lang="en-US" sz="12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1499291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2664681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0982577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03779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NDDW</a:t>
                      </a:r>
                      <a:endParaRPr b="0" lang="en-US" sz="12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-0,0780353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-0,028155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0145269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-0,014139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NDDW+DDW+FAN</a:t>
                      </a:r>
                      <a:endParaRPr b="0" lang="en-US" sz="12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0718937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2383129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1127847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023660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Finite diff.</a:t>
                      </a:r>
                      <a:endParaRPr b="0" lang="en-US" sz="12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0718906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2386011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1127233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83883"/>
                          </a:solidFill>
                          <a:latin typeface="Arial"/>
                          <a:ea typeface="Arial"/>
                        </a:rPr>
                        <a:t>0,023293</a:t>
                      </a:r>
                      <a:endParaRPr b="0" lang="en-US" sz="1400" spc="-1" strike="noStrike">
                        <a:solidFill>
                          <a:srgbClr val="18388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183883"/>
                      </a:solidFill>
                    </a:lnL>
                    <a:lnR w="28080">
                      <a:solidFill>
                        <a:srgbClr val="183883"/>
                      </a:solidFill>
                    </a:lnR>
                    <a:lnT w="28080">
                      <a:solidFill>
                        <a:srgbClr val="183883"/>
                      </a:solidFill>
                    </a:lnT>
                    <a:lnB w="28080">
                      <a:solidFill>
                        <a:srgbClr val="18388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2196720" y="1179360"/>
            <a:ext cx="55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derivatives of the HOMO-LUMO separatio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854360" y="1324080"/>
            <a:ext cx="67388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Thermal expansion contribution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Context: Semi-empirical AHC theory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The New DFPT formalism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Results: Diatomic molecules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00"/>
                </a:solidFill>
                <a:latin typeface="Times New Roman"/>
              </a:rPr>
              <a:t>Results: Silicon and diamond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Future Work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Conclusion 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479600" y="1573200"/>
            <a:ext cx="6446880" cy="4981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196360" y="118440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5b91"/>
                </a:solidFill>
                <a:latin typeface="Times New Roman"/>
              </a:rPr>
              <a:t>Results for Silicon :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28800" y="1417680"/>
            <a:ext cx="62992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751040" y="1327320"/>
            <a:ext cx="6794640" cy="52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23880" y="3048120"/>
            <a:ext cx="9144000" cy="347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859120" y="1984320"/>
                <a:ext cx="4356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n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nary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n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sub>
                        </m:sSub>
                      </m:den>
                    </m:f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494000" y="134316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28d5"/>
                </a:solidFill>
                <a:latin typeface="Times New Roman"/>
              </a:rPr>
              <a:t>Elecron-phonon coupling of silicon: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21360" y="1535040"/>
            <a:ext cx="4022640" cy="3857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40200" y="5527800"/>
            <a:ext cx="43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00"/>
                </a:solidFill>
                <a:latin typeface="Times New Roman"/>
              </a:rPr>
              <a:t>L. Viña, S. Logothetidis and M. Cardona, </a:t>
            </a:r>
            <a:r>
              <a:rPr b="0" i="1" lang="en-US" sz="1800" spc="-1" strike="noStrike">
                <a:solidFill>
                  <a:srgbClr val="d60000"/>
                </a:solidFill>
                <a:latin typeface="Times New Roman"/>
              </a:rPr>
              <a:t>Phys. Rev. B</a:t>
            </a:r>
            <a:r>
              <a:rPr b="0" lang="en-US" sz="1800" spc="-1" strike="noStrike">
                <a:solidFill>
                  <a:srgbClr val="d6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d6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d60000"/>
                </a:solidFill>
                <a:latin typeface="Times New Roman"/>
              </a:rPr>
              <a:t>, 1979 (1984)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9080" y="1627200"/>
            <a:ext cx="4211640" cy="795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871720" cy="48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084320" y="3684600"/>
            <a:ext cx="4167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460520" y="1389240"/>
            <a:ext cx="2043000" cy="502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820440" y="457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14280" y="2031840"/>
            <a:ext cx="7929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 levels and optical properties depends on vibrational effects …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en, Heine, Cardona, Yu, Brook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thermal expansion contrib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asily calculated using DFT + finite difference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lculation of the </a:t>
            </a: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phonon population contrib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systems with many vibration modes can be done efficiently within DFPT + rigid-ion approximation. However, sizeable discrepancies remain for certain system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non-site-diagonal Debye-Waller te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as shown to be non-negligible for the diatomic molecules. It remains to be seen what is its effect in semiconductors.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811160"/>
            <a:ext cx="4803840" cy="4556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37160" y="1782720"/>
            <a:ext cx="2965320" cy="4511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80000" y="1762200"/>
            <a:ext cx="3327480" cy="443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49480" y="2039760"/>
            <a:ext cx="4022640" cy="394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496880" y="6176880"/>
            <a:ext cx="58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00"/>
                </a:solidFill>
                <a:latin typeface="Times New Roman"/>
              </a:rPr>
              <a:t>M. Cardona, </a:t>
            </a:r>
            <a:r>
              <a:rPr b="0" i="1" lang="en-US" sz="1800" spc="-1" strike="noStrike">
                <a:solidFill>
                  <a:srgbClr val="d60000"/>
                </a:solidFill>
                <a:latin typeface="Times New Roman"/>
              </a:rPr>
              <a:t>Solid State Communications</a:t>
            </a:r>
            <a:r>
              <a:rPr b="0" lang="en-US" sz="1800" spc="-1" strike="noStrike">
                <a:solidFill>
                  <a:srgbClr val="d6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d60000"/>
                </a:solidFill>
                <a:latin typeface="Times New Roman"/>
              </a:rPr>
              <a:t>133</a:t>
            </a:r>
            <a:r>
              <a:rPr b="0" lang="en-US" sz="1800" spc="-1" strike="noStrike">
                <a:solidFill>
                  <a:srgbClr val="d60000"/>
                </a:solidFill>
                <a:latin typeface="Times New Roman"/>
              </a:rPr>
              <a:t>, 3 (2005)</a:t>
            </a: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38240" y="1108080"/>
            <a:ext cx="69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00"/>
                </a:solidFill>
                <a:latin typeface="Times New Roman"/>
              </a:rPr>
              <a:t>No good even for T= 0 K, because of Zero Point (ZPT) motion.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613640" y="1646280"/>
            <a:ext cx="1530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639880"/>
            <a:ext cx="4006800" cy="380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070520" y="1825560"/>
            <a:ext cx="3089160" cy="4700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2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050240" y="2481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70120" y="1946160"/>
            <a:ext cx="8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ZPT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0601"/>
                </a:solidFill>
                <a:latin typeface="Times New Roman"/>
              </a:rPr>
              <a:t>(Exp.)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82000" y="322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78400" y="291636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601"/>
                </a:solidFill>
                <a:latin typeface="Times New Roman"/>
              </a:rPr>
              <a:t>0.057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2760" y="203832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Times New Roman"/>
              </a:rPr>
              <a:t>Diff.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81720" y="26272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0.07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81720" y="2901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0.07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75600" y="313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0.1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59400" y="33955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0.13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09720" y="3618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0.03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80280" y="3854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0.12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77040" y="41212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0.07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8160" y="435456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-0.24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5280" y="460692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-0.31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04040" y="485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0.31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00800" y="5110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0.34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99360" y="5356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0.29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75600" y="5592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3883"/>
                </a:solidFill>
                <a:latin typeface="Times New Roman"/>
              </a:rPr>
              <a:t>0.3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84880" y="2614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601"/>
                </a:solidFill>
                <a:latin typeface="Times New Roman"/>
              </a:rPr>
              <a:t>0.052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83080" y="31352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601"/>
                </a:solidFill>
                <a:latin typeface="Times New Roman"/>
              </a:rPr>
              <a:t>0.035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64000" y="46069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601"/>
                </a:solidFill>
                <a:latin typeface="Times New Roman"/>
              </a:rPr>
              <a:t>0.105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73720" y="38368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601"/>
                </a:solidFill>
                <a:latin typeface="Times New Roman"/>
              </a:rPr>
              <a:t>0.023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69040" y="43657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601"/>
                </a:solidFill>
                <a:latin typeface="Times New Roman"/>
              </a:rPr>
              <a:t>0.164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69040" y="36115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601"/>
                </a:solidFill>
                <a:latin typeface="Times New Roman"/>
              </a:rPr>
              <a:t>0.068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65800" y="41162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601"/>
                </a:solidFill>
                <a:latin typeface="Times New Roman"/>
              </a:rPr>
              <a:t>0.173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1920" y="48578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0601"/>
                </a:solidFill>
                <a:latin typeface="Times New Roman"/>
              </a:rPr>
              <a:t>0.37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22720" y="6126120"/>
            <a:ext cx="28144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6364440"/>
            <a:ext cx="28144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741320"/>
            <a:ext cx="1349280" cy="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81280" y="1279440"/>
            <a:ext cx="6284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88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00"/>
                </a:solidFill>
                <a:latin typeface="Times New Roman"/>
              </a:rPr>
              <a:t>Context: Semi-empirical AHC theory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The New DFPT formalism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Validation: Diatomic molecules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Validation: Silicon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Future Work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838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183883"/>
                </a:solidFill>
                <a:latin typeface="Times New Roman"/>
              </a:rPr>
              <a:t>Conclusion </a:t>
            </a:r>
            <a:endParaRPr b="0" lang="en-US" sz="28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58880" y="1263600"/>
            <a:ext cx="6397560" cy="5303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11280" y="1163520"/>
            <a:ext cx="46692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2:30:41Z</dcterms:created>
  <dc:creator>tournesol</dc:creator>
  <dc:description/>
  <dc:language>en-US</dc:language>
  <cp:lastModifiedBy>tournesol</cp:lastModifiedBy>
  <dcterms:modified xsi:type="dcterms:W3CDTF">2011-04-13T06:08:16Z</dcterms:modified>
  <cp:revision>57</cp:revision>
  <dc:subject/>
  <dc:title>Slide 1</dc:title>
</cp:coreProperties>
</file>