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041120" y="762120"/>
            <a:ext cx="4776840" cy="35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1996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921996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2A1-4B49-4FD6-A903-3BC32B7D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81F-9696-41E7-A90C-EE798BC3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AFB1-761D-499D-B175-68B79E32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64A-949D-4F7F-A4BE-66FA86C25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2032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EBF-31E8-4767-A60F-6C14F4919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6840" cy="3582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573080"/>
            <a:ext cx="5029200" cy="43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7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544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7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544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3880" y="2156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5708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5440" y="114264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9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5708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5440" y="3849120"/>
            <a:ext cx="267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3880" y="2156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5000" y="384912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08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000" y="1142640"/>
            <a:ext cx="4052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080" y="3849120"/>
            <a:ext cx="8305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540000" y="6583320"/>
            <a:ext cx="43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Han-sur-Lesse ABINIT developer workshop, 11-14 April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8523720" y="65833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0B5-DD85-444F-AF86-E51A3036AAE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507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3880" y="2156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908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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90400" y="367920"/>
            <a:ext cx="79632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2d2db9"/>
                </a:solidFill>
                <a:latin typeface="Times New Roman"/>
              </a:rPr>
              <a:t>ABINIT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2d2db9"/>
                </a:solidFill>
                <a:latin typeface="Times New Roman"/>
              </a:rPr>
              <a:t>Workshop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2d2db9"/>
                </a:solidFill>
                <a:latin typeface="Times New Roman"/>
              </a:rPr>
              <a:t>WELCOM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65080" y="2679840"/>
            <a:ext cx="8101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S 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   Int. organizing committee (F. Bruneval, B. Partoens, M. Verstraete, J. Zwanziger, X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l organizing committee (S. Benyoub, B. Bertau, J.-M. Beuken, N. Coisman, H. Dixit, G. Franco, A. Jacques, A. Miglio, S. B. Partoens, Poncé, T. Rangel, G.-M. Rignanese, D. Waroqui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755640" y="5607000"/>
            <a:ext cx="1695600" cy="8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2463840" y="5499000"/>
            <a:ext cx="1600200" cy="1017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019400" y="5556240"/>
            <a:ext cx="1460520" cy="95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511960" y="5486400"/>
            <a:ext cx="1384200" cy="105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6972480" y="5442120"/>
            <a:ext cx="155088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572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ABINIT : some dates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72360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cursor : the Corning PW code (commercialized 1992-1995 by Bios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1997 : beginning of the ABINI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c 2000 : release of ABINITv3 under the GNU General Public License (GP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ov 2002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st int. ABINIT dev. workshop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bout 40 participants (LL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04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2nd int. ABINIT dev. workshop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bout 40 participants (Pari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an 2007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rd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bout 60 participants (Liè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r 2009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4rd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about 60 participants (Autr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pril 2011 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5th int. ABINIT dev. worksh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- 57 participants (Han-sur-Les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280040" y="3860640"/>
            <a:ext cx="4443120" cy="2737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927000" y="3860640"/>
            <a:ext cx="3238560" cy="1703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881280" y="5638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3471840" y="6083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5360" y="228240"/>
            <a:ext cx="855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2009-10 : main events for the communit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244160"/>
            <a:ext cx="9144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2009-2010 : creation of Forum+new Web site, developmemt of Test 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ug-Sep 2009 : beautification v5.9-v6.0 with &gt;20 de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c 2009 : Publication of the Comp. Phys. Communication 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10 : CECAM School “Linear and non-linear responses with ABINI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ls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09 : CECAM School “Theoretical Spectroscopy”, Zu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une 2010 : CECAM School “Basic techniques and tools for the development of atomic-scale software”, Zarag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June 2010 : Tutorial BigDFT/ABINIT Carnegie-Mellon U., Pittsburgh PA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ct 2010 : Tutorial ABINIT Cornell University, Ithaca NY, 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ov 2010 : School on Computational Condensed Matter, Irbid, Jord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ay 2011 : CECAM School “Theoretical Spectroscopy”, Lausa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+ The first ETSF users survey (October 200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026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ime evolution since 2004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609480" y="1566720"/>
            <a:ext cx="8318520" cy="46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3188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396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0257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8588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30114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39988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6766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9849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9706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6306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77112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04800" y="3521160"/>
            <a:ext cx="47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s of Jan 201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33cc"/>
                </a:solidFill>
                <a:latin typeface="Times New Roman"/>
              </a:rPr>
              <a:t>1533 routines (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824 automatic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00"/>
                </a:solidFill>
                <a:latin typeface="Times New Roman"/>
              </a:rPr>
              <a:t>670 kLines of F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45.1 MBytes tar.g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                 </a:t>
            </a:r>
            <a:r>
              <a:rPr b="0" lang="fr-BE" sz="2400" spc="-1" strike="noStrike">
                <a:solidFill>
                  <a:srgbClr val="00cc99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>
            <a:off x="15318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25192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6"/>
          <p:cNvSpPr/>
          <p:nvPr/>
        </p:nvSpPr>
        <p:spPr>
          <a:xfrm>
            <a:off x="350532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7"/>
          <p:cNvSpPr/>
          <p:nvPr/>
        </p:nvSpPr>
        <p:spPr>
          <a:xfrm>
            <a:off x="44910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457200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613480" y="10796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>
            <a:off x="54784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3"/>
          <p:cNvSpPr/>
          <p:nvPr/>
        </p:nvSpPr>
        <p:spPr>
          <a:xfrm>
            <a:off x="96372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15987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20559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6"/>
          <p:cNvSpPr/>
          <p:nvPr/>
        </p:nvSpPr>
        <p:spPr>
          <a:xfrm>
            <a:off x="25383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307188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5542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136836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18381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2"/>
          <p:cNvSpPr/>
          <p:nvPr/>
        </p:nvSpPr>
        <p:spPr>
          <a:xfrm>
            <a:off x="229536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4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4"/>
          <p:cNvSpPr/>
          <p:nvPr/>
        </p:nvSpPr>
        <p:spPr>
          <a:xfrm>
            <a:off x="291744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5"/>
          <p:cNvSpPr/>
          <p:nvPr/>
        </p:nvSpPr>
        <p:spPr>
          <a:xfrm>
            <a:off x="334944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6"/>
          <p:cNvSpPr/>
          <p:nvPr/>
        </p:nvSpPr>
        <p:spPr>
          <a:xfrm>
            <a:off x="390996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7"/>
          <p:cNvSpPr/>
          <p:nvPr/>
        </p:nvSpPr>
        <p:spPr>
          <a:xfrm>
            <a:off x="371772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6"/>
          <p:cNvSpPr/>
          <p:nvPr/>
        </p:nvSpPr>
        <p:spPr>
          <a:xfrm>
            <a:off x="431640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6"/>
          <p:cNvSpPr/>
          <p:nvPr/>
        </p:nvSpPr>
        <p:spPr>
          <a:xfrm>
            <a:off x="476100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6"/>
          <p:cNvSpPr/>
          <p:nvPr/>
        </p:nvSpPr>
        <p:spPr>
          <a:xfrm>
            <a:off x="558648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6"/>
          <p:cNvSpPr/>
          <p:nvPr/>
        </p:nvSpPr>
        <p:spPr>
          <a:xfrm>
            <a:off x="58658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7"/>
          <p:cNvSpPr/>
          <p:nvPr/>
        </p:nvSpPr>
        <p:spPr>
          <a:xfrm>
            <a:off x="412020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457740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7"/>
          <p:cNvSpPr/>
          <p:nvPr/>
        </p:nvSpPr>
        <p:spPr>
          <a:xfrm>
            <a:off x="53902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7"/>
          <p:cNvSpPr/>
          <p:nvPr/>
        </p:nvSpPr>
        <p:spPr>
          <a:xfrm>
            <a:off x="56091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0"/>
          <p:cNvSpPr/>
          <p:nvPr/>
        </p:nvSpPr>
        <p:spPr>
          <a:xfrm>
            <a:off x="4572000" y="5778360"/>
            <a:ext cx="4292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4.5     v5.3       v5.7           v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hart 45" descr=""/>
          <p:cNvPicPr/>
          <p:nvPr/>
        </p:nvPicPr>
        <p:blipFill>
          <a:blip r:embed="rId1"/>
          <a:stretch/>
        </p:blipFill>
        <p:spPr>
          <a:xfrm>
            <a:off x="0" y="0"/>
            <a:ext cx="10625040" cy="5986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9"/>
          <p:cNvSpPr/>
          <p:nvPr/>
        </p:nvSpPr>
        <p:spPr>
          <a:xfrm>
            <a:off x="6654960" y="1092240"/>
            <a:ext cx="12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9"/>
          <p:cNvSpPr/>
          <p:nvPr/>
        </p:nvSpPr>
        <p:spPr>
          <a:xfrm>
            <a:off x="7672320" y="1092240"/>
            <a:ext cx="12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Jan’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7545240" y="1486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6491160" y="1486080"/>
            <a:ext cx="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701208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6"/>
          <p:cNvSpPr/>
          <p:nvPr/>
        </p:nvSpPr>
        <p:spPr>
          <a:xfrm>
            <a:off x="62974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6"/>
          <p:cNvSpPr/>
          <p:nvPr/>
        </p:nvSpPr>
        <p:spPr>
          <a:xfrm>
            <a:off x="690732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6"/>
          <p:cNvSpPr/>
          <p:nvPr/>
        </p:nvSpPr>
        <p:spPr>
          <a:xfrm>
            <a:off x="7440480" y="1600200"/>
            <a:ext cx="190800" cy="380880"/>
          </a:xfrm>
          <a:prstGeom prst="upArrow">
            <a:avLst>
              <a:gd name="adj1" fmla="val 50000"/>
              <a:gd name="adj2" fmla="val 49906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56"/>
          <p:cNvSpPr/>
          <p:nvPr/>
        </p:nvSpPr>
        <p:spPr>
          <a:xfrm>
            <a:off x="77072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6"/>
          <p:cNvSpPr/>
          <p:nvPr/>
        </p:nvSpPr>
        <p:spPr>
          <a:xfrm>
            <a:off x="7935840" y="1600200"/>
            <a:ext cx="19044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ff28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7"/>
          <p:cNvSpPr/>
          <p:nvPr/>
        </p:nvSpPr>
        <p:spPr>
          <a:xfrm>
            <a:off x="61138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5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671076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724428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7"/>
          <p:cNvSpPr/>
          <p:nvPr/>
        </p:nvSpPr>
        <p:spPr>
          <a:xfrm>
            <a:off x="7523640" y="20113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79320" y="219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v6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4140360" y="5702400"/>
            <a:ext cx="436860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8028000" y="14986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72"/>
          <p:cNvSpPr/>
          <p:nvPr/>
        </p:nvSpPr>
        <p:spPr>
          <a:xfrm flipH="1">
            <a:off x="4836600" y="4230720"/>
            <a:ext cx="3240" cy="13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traight Connector 73"/>
          <p:cNvSpPr/>
          <p:nvPr/>
        </p:nvSpPr>
        <p:spPr>
          <a:xfrm flipH="1">
            <a:off x="5879880" y="3976560"/>
            <a:ext cx="14040" cy="159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75"/>
          <p:cNvSpPr/>
          <p:nvPr/>
        </p:nvSpPr>
        <p:spPr>
          <a:xfrm flipH="1">
            <a:off x="6946560" y="3594240"/>
            <a:ext cx="12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77"/>
          <p:cNvSpPr/>
          <p:nvPr/>
        </p:nvSpPr>
        <p:spPr>
          <a:xfrm flipH="1">
            <a:off x="8254800" y="3251160"/>
            <a:ext cx="12600" cy="2311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Bibliometry 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581760" y="790560"/>
            <a:ext cx="669420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Some measure of usefulness of ABINI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three papers co-authored by all activ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(Not the only papers from ABINIT developers !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mput. Mat. Science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5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478 (200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16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 : 1211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(2, 29, 66, 116, 155, 150, 216, 228, 2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Z. Kristallogr.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220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558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20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: 244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(2, 18, 21, 58, 54,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mp. Phys. Comm. </a:t>
            </a:r>
            <a:r>
              <a:rPr b="0" lang="fr-BE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0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, 2582 (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33 aut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s of April 10, 2011: 53 c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26 citation i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hart 10" descr=""/>
          <p:cNvPicPr/>
          <p:nvPr/>
        </p:nvPicPr>
        <p:blipFill>
          <a:blip r:embed="rId1"/>
          <a:stretch/>
        </p:blipFill>
        <p:spPr>
          <a:xfrm>
            <a:off x="4565520" y="2444760"/>
            <a:ext cx="4584960" cy="2755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5308560" y="4940280"/>
            <a:ext cx="326412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5079960" y="4995720"/>
            <a:ext cx="406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2     2004      2006      2008    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542200" y="533412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citations per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he user and developer community : </a:t>
            </a:r>
            <a:br>
              <a:rPr sz="3600"/>
            </a:b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analysis of mailing lists/repositor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63760" y="1362240"/>
            <a:ext cx="80949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As of April 201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1400 registered addresses in "announce"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587 registered addresses at forum.abinit.org (started 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61 names from "contributors" file for ABINIT v6 (Sep 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48 GNU Arch branches   (25 active in v6.5-6.6 preparatio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The "announce" li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00 in Dec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300 in Feb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600 in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000 in 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out 1300 in Mar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The ETSF user’s survey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06600" y="1362240"/>
            <a:ext cx="83088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BINIT part of the European Theoretical Spectroscopy Facility software suite, with some packages delivered on ETSF Web site http ://www.etsf.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Other applications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, DP, Elk, Exc, Exciting, FHI98PP, Octopus, V_Sim, YAMBO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Results available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tsf.eu/2009_etsf_software_survey_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-About 193 usable replies (response rate estimated 12.5 %) most of which mentioned the use of ABI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2011 ABINIT Workshop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15600" y="1362240"/>
            <a:ext cx="757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most important : interactions between the developer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Discussion session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onday (Software develop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1. build system / test farm / testing /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2. modularization /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3. pseudopotentials and PAW for the whol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4. future beautification /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Meeting of the ABINIT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5. Roadmap of development, the next 2+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3059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3333cc"/>
                </a:solidFill>
                <a:latin typeface="Times New Roman"/>
              </a:rPr>
              <a:t>Some practical information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9400" y="968400"/>
            <a:ext cx="7468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osters : can be posted during the whole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Wednesday : visit of the cav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FREE, but need to sign-up at the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Leave : sign-up at the reception if earlier than 4pm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Internet : WIFI everywhere in the main building, also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he animatique room, close to the conference ro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Hotel : get the keys around 6pm today, WIFI OK for P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Do not forget to fill the ETSF user’s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7:53:23Z</dcterms:created>
  <dc:creator>xavier gonze</dc:creator>
  <dc:description/>
  <dc:language>en-US</dc:language>
  <cp:lastModifiedBy>Xavier Gonze</cp:lastModifiedBy>
  <cp:lastPrinted>2011-03-16T09:33:08Z</cp:lastPrinted>
  <dcterms:modified xsi:type="dcterms:W3CDTF">2011-04-11T09:33:59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apr.ucl.ac.be/~nysten/</vt:lpwstr>
  </property>
  <property fmtid="{D5CDD505-2E9C-101B-9397-08002B2CF9AE}" pid="9" name="LinkColor">
    <vt:r8>16711782</vt:r8>
  </property>
  <property fmtid="{D5CDD505-2E9C-101B-9397-08002B2CF9AE}" pid="10" name="MailAddress">
    <vt:lpwstr>nysten@poly.ucl.ac.be</vt:lpwstr>
  </property>
  <property fmtid="{D5CDD505-2E9C-101B-9397-08002B2CF9AE}" pid="11" name="NavBtnPos">
    <vt:r8>2</vt:r8>
  </property>
  <property fmtid="{D5CDD505-2E9C-101B-9397-08002B2CF9AE}" pid="12" name="Other">
    <vt:lpwstr>Cours n°1</vt:lpwstr>
  </property>
  <property fmtid="{D5CDD505-2E9C-101B-9397-08002B2CF9AE}" pid="13" name="OutputDir">
    <vt:lpwstr>C:\My Documents\Professionnal\Didactique\FSA1404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