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60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10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30.png" ContentType="image/png"/>
  <Override PartName="/ppt/media/image15.png" ContentType="image/png"/>
  <Override PartName="/ppt/media/image11.jpeg" ContentType="image/jpeg"/>
  <Override PartName="/ppt/media/image24.png" ContentType="image/png"/>
  <Override PartName="/ppt/media/image31.png" ContentType="image/png"/>
  <Override PartName="/ppt/media/image29.png" ContentType="image/png"/>
  <Override PartName="/ppt/media/image32.wmf" ContentType="image/x-wmf"/>
  <Override PartName="/ppt/media/image17.png" ContentType="image/png"/>
  <Override PartName="/ppt/media/image21.png" ContentType="image/png"/>
  <Override PartName="/ppt/media/image58.png" ContentType="image/png"/>
  <Override PartName="/ppt/media/image27.png" ContentType="image/png"/>
  <Override PartName="/ppt/media/image26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5.jpeg" ContentType="image/jpeg"/>
  <Override PartName="/ppt/media/image61.png" ContentType="image/png"/>
  <Override PartName="/ppt/media/image41.wmf" ContentType="image/x-wmf"/>
  <Override PartName="/ppt/media/image62.jpeg" ContentType="image/jpeg"/>
  <Override PartName="/ppt/media/image19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1.png" ContentType="image/png"/>
  <Override PartName="/ppt/media/image13.png" ContentType="image/png"/>
  <Override PartName="/ppt/media/image12.jpeg" ContentType="image/jpeg"/>
  <Override PartName="/ppt/media/image33.wmf" ContentType="image/x-wmf"/>
  <Override PartName="/ppt/media/image34.wmf" ContentType="image/x-wmf"/>
  <Override PartName="/ppt/media/image35.jpeg" ContentType="image/jpeg"/>
  <Override PartName="/ppt/media/image47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18.png" ContentType="image/png"/>
  <Override PartName="/ppt/media/image40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0.jpeg" ContentType="image/jpeg"/>
  <Override PartName="/ppt/media/image52.png" ContentType="image/png"/>
  <Override PartName="/ppt/media/image4.jpeg" ContentType="image/jpeg"/>
  <Override PartName="/ppt/media/image51.png" ContentType="image/png"/>
  <Override PartName="/ppt/media/image5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402228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780840" y="768240"/>
            <a:ext cx="5538600" cy="383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945720" y="4860720"/>
            <a:ext cx="5203800" cy="4601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97232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4022280" y="97232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D9B3B-6E00-41E1-B433-33D228CBB3E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Xie alpha-SiAlON paper to be cited her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Entities should not be multiplied beyond necessity.“ "plurality should not be posited without necessity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  <a:ea typeface="Osaka"/>
              </a:rPr>
              <a:t>2788 &amp; 32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Occam's razor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"Given two equally predictive theories, choose the simplest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039680" y="777960"/>
            <a:ext cx="5019840" cy="383688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Osaka"/>
              </a:rPr>
              <a:t>Similar conclusions also apply to simple compounds like B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2200" cy="383724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Dorenbos, J. Phys. Condens. Matter 17, 8103 (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2200" cy="38372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Dorenbos, J. Phys. Condens. Matter 17, 8103 (20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http://www.imr.tohoku.ac.jp/jpn/about/fukkyu/fukkyu_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The centroid shif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c (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, crystal field splitting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cfs(2+), redshif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(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, and the lowest energy 4f-5d transition of Eu2+ Eabs(Eu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 are indicated. Similar scheme holds true for Ce3+ ligand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calc: Sr2SiO4 : 3.13, 3.35, 3.21 or 3.16, 3.28, 3.18 v.s. Sr3SiO5: 3.32, 3.32, 3.35 v.s. SrO 3.7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The ionicity of binary oxides and silicates Yale Y. Guo*, C.K. Kuo, Patrick S. Nichols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R.R. Reddy et al., Correlation between optical electronegativity, molar refraction, ionicity and density of binary oxides, silicates and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781200" y="768240"/>
            <a:ext cx="5541840" cy="38372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The centroid shif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c (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, crystal field splitting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cfs(2+), redshif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(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, and the lowest energy 4f-5d transition of Eu2+ Eabs(Eu2+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) are indicated. Similar scheme holds true for Ce3+ ligand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678-E72E-4986-A1AC-BF1AD38C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F46-868C-4CB8-B9A3-E9ED2811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D28-028D-435D-80BA-01E131D2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533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9952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75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533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9952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649-B117-4516-A9D4-C5D85234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5F10C-D855-4301-839A-E6D97736F2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784C2-0AA1-4C5D-8020-DBCA16A2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C493E-E77C-45CF-8F13-B5C88F42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AA0C3-ACD9-4B77-8712-EF58DEA3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332E0-8766-4230-8997-7EDF5364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77440" y="-293760"/>
            <a:ext cx="78613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D4FFA-4199-4CE3-AD5F-34174085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9B738-05D5-430E-9569-BCE59171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472-F2A5-492E-BDCB-079C2DF3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EF8BA-5044-48EE-9471-0D72B6EB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50C68-9F07-48FB-B96B-18EE7516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14EA7-C1B4-4370-8681-A4CBD722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CBFB7-D244-45ED-8D70-BBD7FAAD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533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9952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075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533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9952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6880C-E3EF-4A35-AC58-C0943E0941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0B24F-9A7C-4F0D-ACD0-328187E1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7E908-4A10-4E51-9621-90E1FD2E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96EEC-0365-44AE-9EF5-446BD4B5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91E7C-C3C8-4BA4-8D78-F9708C73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D2828-8232-420B-8838-9D2F778C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1C0-641E-4D4E-A784-E222E948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7440" y="-293760"/>
            <a:ext cx="78613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2442E-FF75-44DB-965A-5983CA40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5FD98-DB0E-4439-ADA8-225C44B5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9F36E-8D67-4405-AA15-10F36480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56B2C-A93F-44D9-80BA-00B59BC1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9838E-63C6-4CDF-AE88-DB91D9F2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4DD70-C4DC-4743-A18B-FF5BB9F1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7533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9952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075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7533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9952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7BC43-BBDE-45E8-A704-6146D0A8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16AC1-6FDD-4042-B8BB-BD81E996C6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B08B8-5101-4B3D-920D-00BAF586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DCD0B-C4C2-4C1E-B09D-AB1F044E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15F-ED07-4D98-BC43-2B5FD43F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CA82D0-FB6F-4D0A-AA08-AA212470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C34EB-7F3B-4A03-9485-9B01A6DD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77440" y="-293760"/>
            <a:ext cx="78613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63135-9260-4A28-B15B-AD6BC8E8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436CF-CB4C-4C14-B263-E605E2A1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796DF-7216-4B70-A301-DD1CA52E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E8BA5-058E-46A2-9D0B-F09116A2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13379-147D-4896-9DC9-755F2C0F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B468E-A74A-4B65-A170-825F11A6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5336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99520" y="137160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9075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75336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99520" y="3582360"/>
            <a:ext cx="271008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593B6-5CC6-4ADD-81D3-0ABE4E4787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54E-B3FB-41C4-8F3F-A8F883DA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7440" y="-293760"/>
            <a:ext cx="78613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0EF-6EC3-4247-A18D-6991AA90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AAF-1763-473A-A4F6-AE4399E9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0720" y="358236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2FD-1D66-49A3-B3E6-5582500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756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0720" y="1371600"/>
            <a:ext cx="410724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7560" y="3582360"/>
            <a:ext cx="84171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90E-A554-4634-B983-8A58C6CF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7440" y="-293760"/>
            <a:ext cx="78613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319440"/>
            <a:ext cx="20602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319440"/>
            <a:ext cx="3133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46880" y="6319440"/>
            <a:ext cx="2060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1E318-4F4A-4F1C-B9E1-C3C9B7F031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02480" y="609480"/>
            <a:ext cx="1336680" cy="497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420040" y="0"/>
            <a:ext cx="1478160" cy="531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9906120" cy="158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5943600" y="6781680"/>
            <a:ext cx="3902040" cy="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95360" y="6248160"/>
            <a:ext cx="2060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7429320" y="6248160"/>
            <a:ext cx="2060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5ECFF3-C991-4807-BA0E-82618537927A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280" y="2965320"/>
            <a:ext cx="3958920" cy="38160"/>
          </a:xfrm>
          <a:prstGeom prst="rect">
            <a:avLst/>
          </a:prstGeom>
          <a:solidFill>
            <a:srgbClr val="f5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8280" y="2790720"/>
            <a:ext cx="3958920" cy="41400"/>
          </a:xfrm>
          <a:prstGeom prst="rect">
            <a:avLst/>
          </a:prstGeom>
          <a:solidFill>
            <a:srgbClr val="ef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8280" y="2616120"/>
            <a:ext cx="3958920" cy="47880"/>
          </a:xfrm>
          <a:prstGeom prst="rect">
            <a:avLst/>
          </a:prstGeom>
          <a:solidFill>
            <a:srgbClr val="e9f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8280" y="2441520"/>
            <a:ext cx="3958920" cy="50760"/>
          </a:xfrm>
          <a:prstGeom prst="rect">
            <a:avLst/>
          </a:prstGeom>
          <a:solidFill>
            <a:srgbClr val="e4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8280" y="2266920"/>
            <a:ext cx="3958920" cy="57240"/>
          </a:xfrm>
          <a:prstGeom prst="rect">
            <a:avLst/>
          </a:prstGeom>
          <a:solidFill>
            <a:srgbClr val="de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8280" y="2095560"/>
            <a:ext cx="3958920" cy="57240"/>
          </a:xfrm>
          <a:prstGeom prst="rect">
            <a:avLst/>
          </a:prstGeom>
          <a:solidFill>
            <a:srgbClr val="d8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8280" y="1920960"/>
            <a:ext cx="3958920" cy="63360"/>
          </a:xfrm>
          <a:prstGeom prst="rect">
            <a:avLst/>
          </a:prstGeom>
          <a:solidFill>
            <a:srgbClr val="d2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8280" y="1746360"/>
            <a:ext cx="3958920" cy="66600"/>
          </a:xfrm>
          <a:prstGeom prst="rect">
            <a:avLst/>
          </a:prstGeom>
          <a:solidFill>
            <a:srgbClr val="cd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8280" y="1571760"/>
            <a:ext cx="3958920" cy="69840"/>
          </a:xfrm>
          <a:prstGeom prst="rect">
            <a:avLst/>
          </a:prstGeom>
          <a:solidFill>
            <a:srgbClr val="c7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8280" y="1397160"/>
            <a:ext cx="3958920" cy="75960"/>
          </a:xfrm>
          <a:prstGeom prst="rect">
            <a:avLst/>
          </a:prstGeom>
          <a:solidFill>
            <a:srgbClr val="c1e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8280" y="1222200"/>
            <a:ext cx="3958920" cy="79560"/>
          </a:xfrm>
          <a:prstGeom prst="rect">
            <a:avLst/>
          </a:prstGeom>
          <a:solidFill>
            <a:srgbClr val="bbe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8280" y="1047600"/>
            <a:ext cx="3958920" cy="86040"/>
          </a:xfrm>
          <a:prstGeom prst="rect">
            <a:avLst/>
          </a:prstGeom>
          <a:solidFill>
            <a:srgbClr val="b6e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8280" y="876240"/>
            <a:ext cx="3958920" cy="85680"/>
          </a:xfrm>
          <a:prstGeom prst="rect">
            <a:avLst/>
          </a:prstGeom>
          <a:solidFill>
            <a:srgbClr val="b0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8280" y="701640"/>
            <a:ext cx="3958920" cy="92160"/>
          </a:xfrm>
          <a:prstGeom prst="rect">
            <a:avLst/>
          </a:prstGeom>
          <a:solidFill>
            <a:srgbClr val="aad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8280" y="527040"/>
            <a:ext cx="3958920" cy="95400"/>
          </a:xfrm>
          <a:prstGeom prst="rect">
            <a:avLst/>
          </a:prstGeom>
          <a:solidFill>
            <a:srgbClr val="a4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8280" y="352440"/>
            <a:ext cx="3958920" cy="101520"/>
          </a:xfrm>
          <a:prstGeom prst="rect">
            <a:avLst/>
          </a:prstGeom>
          <a:solidFill>
            <a:srgbClr val="9fd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8280" y="177840"/>
            <a:ext cx="3958920" cy="104760"/>
          </a:xfrm>
          <a:prstGeom prst="rect">
            <a:avLst/>
          </a:prstGeom>
          <a:solidFill>
            <a:srgbClr val="99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8280" y="3444840"/>
            <a:ext cx="3958920" cy="38160"/>
          </a:xfrm>
          <a:prstGeom prst="rect">
            <a:avLst/>
          </a:prstGeom>
          <a:solidFill>
            <a:srgbClr val="f5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8280" y="3613320"/>
            <a:ext cx="3958920" cy="44280"/>
          </a:xfrm>
          <a:prstGeom prst="rect">
            <a:avLst/>
          </a:prstGeom>
          <a:solidFill>
            <a:srgbClr val="ef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8280" y="3784680"/>
            <a:ext cx="3958920" cy="44280"/>
          </a:xfrm>
          <a:prstGeom prst="rect">
            <a:avLst/>
          </a:prstGeom>
          <a:solidFill>
            <a:srgbClr val="e9f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8280" y="3952800"/>
            <a:ext cx="3958920" cy="50760"/>
          </a:xfrm>
          <a:prstGeom prst="rect">
            <a:avLst/>
          </a:prstGeom>
          <a:solidFill>
            <a:srgbClr val="e4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8280" y="4124160"/>
            <a:ext cx="3958920" cy="54000"/>
          </a:xfrm>
          <a:prstGeom prst="rect">
            <a:avLst/>
          </a:prstGeom>
          <a:solidFill>
            <a:srgbClr val="de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8280" y="4292640"/>
            <a:ext cx="3958920" cy="60120"/>
          </a:xfrm>
          <a:prstGeom prst="rect">
            <a:avLst/>
          </a:prstGeom>
          <a:solidFill>
            <a:srgbClr val="d8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8280" y="4464000"/>
            <a:ext cx="3958920" cy="63720"/>
          </a:xfrm>
          <a:prstGeom prst="rect">
            <a:avLst/>
          </a:prstGeom>
          <a:solidFill>
            <a:srgbClr val="d2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8280" y="4635360"/>
            <a:ext cx="3958920" cy="66960"/>
          </a:xfrm>
          <a:prstGeom prst="rect">
            <a:avLst/>
          </a:prstGeom>
          <a:solidFill>
            <a:srgbClr val="cd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8280" y="4803840"/>
            <a:ext cx="3958920" cy="73080"/>
          </a:xfrm>
          <a:prstGeom prst="rect">
            <a:avLst/>
          </a:prstGeom>
          <a:solidFill>
            <a:srgbClr val="c7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8280" y="4975200"/>
            <a:ext cx="3958920" cy="73080"/>
          </a:xfrm>
          <a:prstGeom prst="rect">
            <a:avLst/>
          </a:prstGeom>
          <a:solidFill>
            <a:srgbClr val="c1e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8280" y="5143680"/>
            <a:ext cx="3958920" cy="79200"/>
          </a:xfrm>
          <a:prstGeom prst="rect">
            <a:avLst/>
          </a:prstGeom>
          <a:solidFill>
            <a:srgbClr val="bbe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8280" y="5315040"/>
            <a:ext cx="3958920" cy="82440"/>
          </a:xfrm>
          <a:prstGeom prst="rect">
            <a:avLst/>
          </a:prstGeom>
          <a:solidFill>
            <a:srgbClr val="b6e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8280" y="5483160"/>
            <a:ext cx="3958920" cy="88920"/>
          </a:xfrm>
          <a:prstGeom prst="rect">
            <a:avLst/>
          </a:prstGeom>
          <a:solidFill>
            <a:srgbClr val="b0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8280" y="5654520"/>
            <a:ext cx="3958920" cy="92160"/>
          </a:xfrm>
          <a:prstGeom prst="rect">
            <a:avLst/>
          </a:prstGeom>
          <a:solidFill>
            <a:srgbClr val="aad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8280" y="5826240"/>
            <a:ext cx="3958920" cy="95040"/>
          </a:xfrm>
          <a:prstGeom prst="rect">
            <a:avLst/>
          </a:prstGeom>
          <a:solidFill>
            <a:srgbClr val="a4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8280" y="5994360"/>
            <a:ext cx="3958920" cy="101520"/>
          </a:xfrm>
          <a:prstGeom prst="rect">
            <a:avLst/>
          </a:prstGeom>
          <a:solidFill>
            <a:srgbClr val="9fd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8280" y="6165720"/>
            <a:ext cx="3958920" cy="101880"/>
          </a:xfrm>
          <a:prstGeom prst="rect">
            <a:avLst/>
          </a:prstGeom>
          <a:solidFill>
            <a:srgbClr val="99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title"/>
          </p:nvPr>
        </p:nvSpPr>
        <p:spPr>
          <a:xfrm>
            <a:off x="1073160" y="1916280"/>
            <a:ext cx="8416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54240" y="6324480"/>
            <a:ext cx="3748320" cy="22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435800" y="152280"/>
            <a:ext cx="2158920" cy="870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7440" y="0"/>
            <a:ext cx="7861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7560" y="1371600"/>
            <a:ext cx="84171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990360" y="6324480"/>
            <a:ext cx="20602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7"/>
          </p:nvPr>
        </p:nvSpPr>
        <p:spPr>
          <a:xfrm>
            <a:off x="3631680" y="6324480"/>
            <a:ext cx="3133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7346880" y="6324480"/>
            <a:ext cx="20606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ge </a:t>
            </a:r>
            <a:fld id="{E92A7EDD-2929-45CA-8418-4C14FF7A163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/ 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502480" y="609480"/>
            <a:ext cx="1336680" cy="497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420040" y="0"/>
            <a:ext cx="1478160" cy="531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9906120" cy="1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943600" y="6781680"/>
            <a:ext cx="3902040" cy="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dt" idx="9"/>
          </p:nvPr>
        </p:nvSpPr>
        <p:spPr>
          <a:xfrm>
            <a:off x="495360" y="6248160"/>
            <a:ext cx="2060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Num" idx="10"/>
          </p:nvPr>
        </p:nvSpPr>
        <p:spPr>
          <a:xfrm>
            <a:off x="7429320" y="6248160"/>
            <a:ext cx="2060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A55102-10DA-4A9F-AEF5-9BE4C9B6DD34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8280" y="2965320"/>
            <a:ext cx="3958920" cy="38160"/>
          </a:xfrm>
          <a:prstGeom prst="rect">
            <a:avLst/>
          </a:prstGeom>
          <a:solidFill>
            <a:srgbClr val="f5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8280" y="2790720"/>
            <a:ext cx="3958920" cy="41400"/>
          </a:xfrm>
          <a:prstGeom prst="rect">
            <a:avLst/>
          </a:prstGeom>
          <a:solidFill>
            <a:srgbClr val="ef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8280" y="2616120"/>
            <a:ext cx="3958920" cy="47880"/>
          </a:xfrm>
          <a:prstGeom prst="rect">
            <a:avLst/>
          </a:prstGeom>
          <a:solidFill>
            <a:srgbClr val="e9f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8280" y="2441520"/>
            <a:ext cx="3958920" cy="50760"/>
          </a:xfrm>
          <a:prstGeom prst="rect">
            <a:avLst/>
          </a:prstGeom>
          <a:solidFill>
            <a:srgbClr val="e4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8280" y="2266920"/>
            <a:ext cx="3958920" cy="57240"/>
          </a:xfrm>
          <a:prstGeom prst="rect">
            <a:avLst/>
          </a:prstGeom>
          <a:solidFill>
            <a:srgbClr val="de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8280" y="2095560"/>
            <a:ext cx="3958920" cy="57240"/>
          </a:xfrm>
          <a:prstGeom prst="rect">
            <a:avLst/>
          </a:prstGeom>
          <a:solidFill>
            <a:srgbClr val="d8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8280" y="1920960"/>
            <a:ext cx="3958920" cy="63360"/>
          </a:xfrm>
          <a:prstGeom prst="rect">
            <a:avLst/>
          </a:prstGeom>
          <a:solidFill>
            <a:srgbClr val="d2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8280" y="1746360"/>
            <a:ext cx="3958920" cy="66600"/>
          </a:xfrm>
          <a:prstGeom prst="rect">
            <a:avLst/>
          </a:prstGeom>
          <a:solidFill>
            <a:srgbClr val="cd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8280" y="1571760"/>
            <a:ext cx="3958920" cy="69840"/>
          </a:xfrm>
          <a:prstGeom prst="rect">
            <a:avLst/>
          </a:prstGeom>
          <a:solidFill>
            <a:srgbClr val="c7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8280" y="1397160"/>
            <a:ext cx="3958920" cy="75960"/>
          </a:xfrm>
          <a:prstGeom prst="rect">
            <a:avLst/>
          </a:prstGeom>
          <a:solidFill>
            <a:srgbClr val="c1e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78280" y="1222200"/>
            <a:ext cx="3958920" cy="79560"/>
          </a:xfrm>
          <a:prstGeom prst="rect">
            <a:avLst/>
          </a:prstGeom>
          <a:solidFill>
            <a:srgbClr val="bbe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8280" y="1047600"/>
            <a:ext cx="3958920" cy="86040"/>
          </a:xfrm>
          <a:prstGeom prst="rect">
            <a:avLst/>
          </a:prstGeom>
          <a:solidFill>
            <a:srgbClr val="b6e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8280" y="876240"/>
            <a:ext cx="3958920" cy="85680"/>
          </a:xfrm>
          <a:prstGeom prst="rect">
            <a:avLst/>
          </a:prstGeom>
          <a:solidFill>
            <a:srgbClr val="b0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8280" y="701640"/>
            <a:ext cx="3958920" cy="92160"/>
          </a:xfrm>
          <a:prstGeom prst="rect">
            <a:avLst/>
          </a:prstGeom>
          <a:solidFill>
            <a:srgbClr val="aad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8280" y="527040"/>
            <a:ext cx="3958920" cy="95400"/>
          </a:xfrm>
          <a:prstGeom prst="rect">
            <a:avLst/>
          </a:prstGeom>
          <a:solidFill>
            <a:srgbClr val="a4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78280" y="352440"/>
            <a:ext cx="3958920" cy="101520"/>
          </a:xfrm>
          <a:prstGeom prst="rect">
            <a:avLst/>
          </a:prstGeom>
          <a:solidFill>
            <a:srgbClr val="9fd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8280" y="177840"/>
            <a:ext cx="3958920" cy="104760"/>
          </a:xfrm>
          <a:prstGeom prst="rect">
            <a:avLst/>
          </a:prstGeom>
          <a:solidFill>
            <a:srgbClr val="99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8280" y="3444840"/>
            <a:ext cx="3958920" cy="38160"/>
          </a:xfrm>
          <a:prstGeom prst="rect">
            <a:avLst/>
          </a:prstGeom>
          <a:solidFill>
            <a:srgbClr val="f5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8280" y="3613320"/>
            <a:ext cx="3958920" cy="44280"/>
          </a:xfrm>
          <a:prstGeom prst="rect">
            <a:avLst/>
          </a:prstGeom>
          <a:solidFill>
            <a:srgbClr val="eff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8280" y="3784680"/>
            <a:ext cx="3958920" cy="44280"/>
          </a:xfrm>
          <a:prstGeom prst="rect">
            <a:avLst/>
          </a:prstGeom>
          <a:solidFill>
            <a:srgbClr val="e9f7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8280" y="3952800"/>
            <a:ext cx="3958920" cy="50760"/>
          </a:xfrm>
          <a:prstGeom prst="rect">
            <a:avLst/>
          </a:prstGeom>
          <a:solidFill>
            <a:srgbClr val="e4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8280" y="4124160"/>
            <a:ext cx="3958920" cy="54000"/>
          </a:xfrm>
          <a:prstGeom prst="rect">
            <a:avLst/>
          </a:prstGeom>
          <a:solidFill>
            <a:srgbClr val="def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8280" y="4292640"/>
            <a:ext cx="3958920" cy="60120"/>
          </a:xfrm>
          <a:prstGeom prst="rect">
            <a:avLst/>
          </a:prstGeom>
          <a:solidFill>
            <a:srgbClr val="d8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8280" y="4464000"/>
            <a:ext cx="3958920" cy="63720"/>
          </a:xfrm>
          <a:prstGeom prst="rect">
            <a:avLst/>
          </a:prstGeom>
          <a:solidFill>
            <a:srgbClr val="d2e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8280" y="4635360"/>
            <a:ext cx="3958920" cy="66960"/>
          </a:xfrm>
          <a:prstGeom prst="rect">
            <a:avLst/>
          </a:prstGeom>
          <a:solidFill>
            <a:srgbClr val="cd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8280" y="4803840"/>
            <a:ext cx="3958920" cy="73080"/>
          </a:xfrm>
          <a:prstGeom prst="rect">
            <a:avLst/>
          </a:prstGeom>
          <a:solidFill>
            <a:srgbClr val="c7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8280" y="4975200"/>
            <a:ext cx="3958920" cy="73080"/>
          </a:xfrm>
          <a:prstGeom prst="rect">
            <a:avLst/>
          </a:prstGeom>
          <a:solidFill>
            <a:srgbClr val="c1e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8280" y="5143680"/>
            <a:ext cx="3958920" cy="79200"/>
          </a:xfrm>
          <a:prstGeom prst="rect">
            <a:avLst/>
          </a:prstGeom>
          <a:solidFill>
            <a:srgbClr val="bbe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8280" y="5315040"/>
            <a:ext cx="3958920" cy="82440"/>
          </a:xfrm>
          <a:prstGeom prst="rect">
            <a:avLst/>
          </a:prstGeom>
          <a:solidFill>
            <a:srgbClr val="b6e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8280" y="5483160"/>
            <a:ext cx="3958920" cy="88920"/>
          </a:xfrm>
          <a:prstGeom prst="rect">
            <a:avLst/>
          </a:prstGeom>
          <a:solidFill>
            <a:srgbClr val="b0e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8280" y="5654520"/>
            <a:ext cx="3958920" cy="92160"/>
          </a:xfrm>
          <a:prstGeom prst="rect">
            <a:avLst/>
          </a:prstGeom>
          <a:solidFill>
            <a:srgbClr val="aadf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8280" y="5826240"/>
            <a:ext cx="3958920" cy="95040"/>
          </a:xfrm>
          <a:prstGeom prst="rect">
            <a:avLst/>
          </a:prstGeom>
          <a:solidFill>
            <a:srgbClr val="a4d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8280" y="5994360"/>
            <a:ext cx="3958920" cy="101520"/>
          </a:xfrm>
          <a:prstGeom prst="rect">
            <a:avLst/>
          </a:prstGeom>
          <a:solidFill>
            <a:srgbClr val="9fd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8280" y="6165720"/>
            <a:ext cx="3958920" cy="101880"/>
          </a:xfrm>
          <a:prstGeom prst="rect">
            <a:avLst/>
          </a:prstGeom>
          <a:solidFill>
            <a:srgbClr val="99d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title"/>
          </p:nvPr>
        </p:nvSpPr>
        <p:spPr>
          <a:xfrm>
            <a:off x="1073160" y="2208240"/>
            <a:ext cx="841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054240" y="6324480"/>
            <a:ext cx="3748320" cy="225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346880" y="152280"/>
            <a:ext cx="2338560" cy="87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9.png"/><Relationship Id="rId3" Type="http://schemas.openxmlformats.org/officeDocument/2006/relationships/image" Target="../media/image55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1640" y="1641240"/>
            <a:ext cx="8339400" cy="18889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aterials for white-LED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fforts for Ab initio Materials Design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. Mikami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, IOP Conf. Ser.: Mater. Sci. Eng. 1, 012002 (200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. Mikami, N. Kijima, B.Bertrand, M.Stankovski, X.Gonze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bi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in pres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361800" y="3544920"/>
            <a:ext cx="8864640" cy="20444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asayoshi Mik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tsubishi Chemical Group Science &amp; Technology Research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Bruno Bertrand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ＭＳ Ｐゴシック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tin Stankovski, Xavier Go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ETSF/Universite Catholique de Louvain, Belg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* CERDECAM, Institut Supérieur Industriel ECAM, Belg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00360" y="5813280"/>
            <a:ext cx="611964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BINT 2011 Workshop (11-14 April, 2011, Han-sur-Lesse, Belgi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8440" y="36360"/>
            <a:ext cx="1143000" cy="14353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171440" y="782640"/>
            <a:ext cx="1024200" cy="628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484360" y="798480"/>
            <a:ext cx="108000" cy="709560"/>
          </a:xfrm>
          <a:custGeom>
            <a:avLst/>
            <a:gdLst>
              <a:gd name="textAreaLeft" fmla="*/ 360 w 108000"/>
              <a:gd name="textAreaRight" fmla="*/ 107640 w 108000"/>
              <a:gd name="textAreaTop" fmla="*/ 360 h 709560"/>
              <a:gd name="textAreaBottom" fmla="*/ 709200 h 709560"/>
            </a:gdLst>
            <a:ahLst/>
            <a:rect l="textAreaLeft" t="textAreaTop" r="textAreaRight" b="textAreaBottom"/>
            <a:pathLst>
              <a:path w="21600" h="141512">
                <a:moveTo>
                  <a:pt x="317" y="0"/>
                </a:moveTo>
                <a:arcTo wR="317" hR="317" stAng="16200000" swAng="-5400000"/>
                <a:lnTo>
                  <a:pt x="0" y="141195"/>
                </a:lnTo>
                <a:arcTo wR="317" hR="317" stAng="10800000" swAng="-5400000"/>
                <a:lnTo>
                  <a:pt x="21283" y="141512"/>
                </a:lnTo>
                <a:arcTo wR="317" hR="317" stAng="5400000" swAng="-5400000"/>
                <a:lnTo>
                  <a:pt x="21600" y="317"/>
                </a:lnTo>
                <a:arcTo wR="317" hR="31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998640" y="42840"/>
            <a:ext cx="1341360" cy="7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459320" y="1471680"/>
            <a:ext cx="4719600" cy="3933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79200" y="1476360"/>
            <a:ext cx="4600800" cy="39258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546920" y="1165320"/>
            <a:ext cx="19958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2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242760" y="1190520"/>
            <a:ext cx="19148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4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60480" y="5413320"/>
            <a:ext cx="42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 peak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530nm (G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strong luminescence@R.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256360" y="5411880"/>
            <a:ext cx="44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 peak </a:t>
            </a:r>
            <a:r>
              <a:rPr b="1" lang="fr-BE" sz="2200" spc="-1" strike="noStrike">
                <a:solidFill>
                  <a:srgbClr val="000000"/>
                </a:solidFill>
                <a:latin typeface="Symbol"/>
                <a:ea typeface="Symbol"/>
              </a:rPr>
              <a:t>∼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fr-BE" sz="2200" spc="-1" strike="noStrike">
                <a:solidFill>
                  <a:srgbClr val="008080"/>
                </a:solidFill>
                <a:latin typeface="Times New Roman"/>
                <a:ea typeface="ＭＳ Ｐゴシック"/>
              </a:rPr>
              <a:t>480nm (Blue-g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quenching @ R.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95640" y="1935000"/>
            <a:ext cx="53496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118280" y="1976400"/>
            <a:ext cx="1249560" cy="1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78000" y="15840"/>
            <a:ext cx="185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24360" y="613404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hed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2007), M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2009); see also, C. Brau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36720" y="289080"/>
            <a:ext cx="5757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Ba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u  f-d e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3260880" y="2968560"/>
            <a:ext cx="3060720" cy="27208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6262560" y="2903400"/>
            <a:ext cx="3510000" cy="26226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111240" y="2954160"/>
            <a:ext cx="2625480" cy="25941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7610760" y="5384880"/>
            <a:ext cx="197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Dierr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20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9440" y="2816280"/>
            <a:ext cx="2826000" cy="2936880"/>
          </a:xfrm>
          <a:prstGeom prst="flowChartAlternateProcess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-1440" y="57578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onfigurational 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60720" y="2816280"/>
            <a:ext cx="6746760" cy="2908080"/>
          </a:xfrm>
          <a:prstGeom prst="flowChartAlternateProcess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643720" y="567864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900"/>
                </a:solidFill>
                <a:latin typeface="Times New Roman"/>
              </a:rPr>
              <a:t>auto-i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991200" y="3362400"/>
            <a:ext cx="1800" cy="225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121600" y="3359160"/>
            <a:ext cx="1800" cy="225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9178920" y="3122280"/>
            <a:ext cx="1440" cy="579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460000" y="31766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99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77160" y="3598920"/>
            <a:ext cx="1440" cy="539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113680" y="3649680"/>
            <a:ext cx="1800" cy="66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94760" y="3749760"/>
            <a:ext cx="1800" cy="554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400" y="3527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ff0000"/>
                </a:solidFill>
                <a:latin typeface="Times New Roman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ff0000"/>
                </a:solidFill>
                <a:latin typeface="Times New Roman"/>
              </a:rPr>
              <a:t>e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27520" y="2917800"/>
            <a:ext cx="12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e </a:t>
            </a:r>
            <a:r>
              <a:rPr b="1" i="1" lang="fr-BE" sz="2000" spc="-1" strike="noStrike" baseline="30000">
                <a:solidFill>
                  <a:srgbClr val="009900"/>
                </a:solidFill>
                <a:latin typeface="Times New Roman"/>
              </a:rPr>
              <a:t>-</a:t>
            </a: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20840" y="3238560"/>
            <a:ext cx="615960" cy="393480"/>
          </a:xfrm>
          <a:custGeom>
            <a:avLst/>
            <a:gdLst>
              <a:gd name="textAreaLeft" fmla="*/ 107640 w 615960"/>
              <a:gd name="textAreaRight" fmla="*/ 446760 w 615960"/>
              <a:gd name="textAreaTop" fmla="*/ 52560 h 393480"/>
              <a:gd name="textAreaBottom" fmla="*/ 340920 h 39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62400" y="3087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00cc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al quench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1496880"/>
            <a:ext cx="97268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explain thermal quenching with configurational coordinate diagra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to explain with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uto-ioniza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52720" y="287280"/>
            <a:ext cx="5543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/PLE of Ba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amp; Ba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280" y="109440"/>
            <a:ext cx="251964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49320" y="1166760"/>
            <a:ext cx="5730840" cy="531324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84920" y="1403280"/>
            <a:ext cx="394164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kes shift (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a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:Eu   27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Eu    32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 to expl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mal quenching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al coordinate diagra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to explain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uto-ioniz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93600" y="2274840"/>
            <a:ext cx="4957920" cy="235584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479520" y="2274840"/>
            <a:ext cx="1466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Isolated Eu</a:t>
            </a:r>
            <a:r>
              <a:rPr b="0" lang="fr-BE" sz="1600" spc="-1" strike="noStrike" baseline="33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84680" y="3718080"/>
            <a:ext cx="339480" cy="731520"/>
          </a:xfrm>
          <a:custGeom>
            <a:avLst/>
            <a:gdLst>
              <a:gd name="textAreaLeft" fmla="*/ 360 w 339480"/>
              <a:gd name="textAreaRight" fmla="*/ 339120 w 339480"/>
              <a:gd name="textAreaTop" fmla="*/ 360 h 731520"/>
              <a:gd name="textAreaBottom" fmla="*/ 731160 h 731520"/>
            </a:gdLst>
            <a:ahLst/>
            <a:rect l="textAreaLeft" t="textAreaTop" r="textAreaRight" b="textAreaBottom"/>
            <a:pathLst>
              <a:path w="21600" h="46518">
                <a:moveTo>
                  <a:pt x="100" y="0"/>
                </a:moveTo>
                <a:arcTo wR="100" hR="100" stAng="16200000" swAng="-5400000"/>
                <a:lnTo>
                  <a:pt x="0" y="46418"/>
                </a:lnTo>
                <a:arcTo wR="100" hR="100" stAng="10800000" swAng="-5400000"/>
                <a:lnTo>
                  <a:pt x="21500" y="46518"/>
                </a:lnTo>
                <a:arcTo wR="100" hR="100" stAng="5400000" swAng="-5400000"/>
                <a:lnTo>
                  <a:pt x="21600" y="100"/>
                </a:lnTo>
                <a:arcTo wR="100" hR="1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75040" y="4427640"/>
            <a:ext cx="112680" cy="104760"/>
          </a:xfrm>
          <a:prstGeom prst="roundRect">
            <a:avLst>
              <a:gd name="adj" fmla="val 1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21120" y="3780000"/>
            <a:ext cx="1440" cy="731520"/>
          </a:xfrm>
          <a:prstGeom prst="line">
            <a:avLst/>
          </a:prstGeom>
          <a:ln w="36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95480" y="2274840"/>
            <a:ext cx="2401920" cy="447840"/>
          </a:xfrm>
          <a:prstGeom prst="roundRect">
            <a:avLst>
              <a:gd name="adj" fmla="val 3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06720" y="2274840"/>
            <a:ext cx="170496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Eu</a:t>
            </a:r>
            <a:r>
              <a:rPr b="0" lang="fr-BE" sz="1600" spc="-1" strike="noStrike" baseline="33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 in the bu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280" y="4746600"/>
            <a:ext cx="4980240" cy="314280"/>
          </a:xfrm>
          <a:prstGeom prst="roundRect">
            <a:avLst>
              <a:gd name="adj" fmla="val 50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46160" y="4829040"/>
            <a:ext cx="3184560" cy="362160"/>
          </a:xfrm>
          <a:prstGeom prst="roundRect">
            <a:avLst>
              <a:gd name="adj" fmla="val 435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81280" y="3424320"/>
            <a:ext cx="792360" cy="145800"/>
          </a:xfrm>
          <a:prstGeom prst="roundRect">
            <a:avLst>
              <a:gd name="adj" fmla="val 10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86320" y="3403440"/>
            <a:ext cx="565200" cy="209880"/>
          </a:xfrm>
          <a:prstGeom prst="roundRect">
            <a:avLst>
              <a:gd name="adj" fmla="val 75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305240" y="3424320"/>
            <a:ext cx="112680" cy="104760"/>
          </a:xfrm>
          <a:prstGeom prst="roundRect">
            <a:avLst>
              <a:gd name="adj" fmla="val 1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38600" y="4851360"/>
            <a:ext cx="21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46160" y="2610000"/>
            <a:ext cx="3184560" cy="819000"/>
          </a:xfrm>
          <a:prstGeom prst="roundRect">
            <a:avLst>
              <a:gd name="adj" fmla="val 190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14680" y="2548080"/>
            <a:ext cx="232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6040" y="1179360"/>
            <a:ext cx="9553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ow to determine the luminescence mechanism from DFT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07120" y="1959120"/>
            <a:ext cx="44226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ff"/>
                </a:solidFill>
                <a:latin typeface="Times New Roman"/>
              </a:rPr>
              <a:t>1) Model for photo-em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 gap between the lowest 5d and 4f states of Europium impurities within the host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89200" y="4227480"/>
            <a:ext cx="53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89200" y="3411360"/>
            <a:ext cx="53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608280" y="3722760"/>
            <a:ext cx="636840" cy="815760"/>
          </a:xfrm>
          <a:prstGeom prst="ellipse">
            <a:avLst/>
          </a:prstGeom>
          <a:noFill/>
          <a:ln w="18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89440" y="287280"/>
            <a:ext cx="554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mpir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93600" y="2274840"/>
            <a:ext cx="4957920" cy="23558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479520" y="2274840"/>
            <a:ext cx="146664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Isolated Eu</a:t>
            </a:r>
            <a:r>
              <a:rPr b="0" lang="fr-BE" sz="1600" spc="-1" strike="noStrike" baseline="33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84680" y="3718080"/>
            <a:ext cx="339480" cy="731520"/>
          </a:xfrm>
          <a:custGeom>
            <a:avLst/>
            <a:gdLst>
              <a:gd name="textAreaLeft" fmla="*/ 360 w 339480"/>
              <a:gd name="textAreaRight" fmla="*/ 339120 w 339480"/>
              <a:gd name="textAreaTop" fmla="*/ 360 h 731520"/>
              <a:gd name="textAreaBottom" fmla="*/ 731160 h 731520"/>
            </a:gdLst>
            <a:ahLst/>
            <a:rect l="textAreaLeft" t="textAreaTop" r="textAreaRight" b="textAreaBottom"/>
            <a:pathLst>
              <a:path w="21600" h="46518">
                <a:moveTo>
                  <a:pt x="100" y="0"/>
                </a:moveTo>
                <a:arcTo wR="100" hR="100" stAng="16200000" swAng="-5400000"/>
                <a:lnTo>
                  <a:pt x="0" y="46418"/>
                </a:lnTo>
                <a:arcTo wR="100" hR="100" stAng="10800000" swAng="-5400000"/>
                <a:lnTo>
                  <a:pt x="21500" y="46518"/>
                </a:lnTo>
                <a:arcTo wR="100" hR="100" stAng="5400000" swAng="-5400000"/>
                <a:lnTo>
                  <a:pt x="21600" y="100"/>
                </a:lnTo>
                <a:arcTo wR="100" hR="1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75040" y="4427640"/>
            <a:ext cx="112680" cy="104760"/>
          </a:xfrm>
          <a:prstGeom prst="roundRect">
            <a:avLst>
              <a:gd name="adj" fmla="val 1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995480" y="2274840"/>
            <a:ext cx="2401920" cy="447840"/>
          </a:xfrm>
          <a:prstGeom prst="roundRect">
            <a:avLst>
              <a:gd name="adj" fmla="val 3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06720" y="2274840"/>
            <a:ext cx="170496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Eu</a:t>
            </a:r>
            <a:r>
              <a:rPr b="0" lang="fr-BE" sz="1600" spc="-1" strike="noStrike" baseline="33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 in the bu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1280" y="4746600"/>
            <a:ext cx="4980240" cy="314280"/>
          </a:xfrm>
          <a:prstGeom prst="roundRect">
            <a:avLst>
              <a:gd name="adj" fmla="val 50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46160" y="4829040"/>
            <a:ext cx="3184560" cy="362160"/>
          </a:xfrm>
          <a:prstGeom prst="roundRect">
            <a:avLst>
              <a:gd name="adj" fmla="val 435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424320"/>
            <a:ext cx="792360" cy="145800"/>
          </a:xfrm>
          <a:prstGeom prst="roundRect">
            <a:avLst>
              <a:gd name="adj" fmla="val 10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86320" y="3403440"/>
            <a:ext cx="565200" cy="209880"/>
          </a:xfrm>
          <a:prstGeom prst="roundRect">
            <a:avLst>
              <a:gd name="adj" fmla="val 75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24320"/>
            <a:ext cx="112680" cy="104760"/>
          </a:xfrm>
          <a:prstGeom prst="roundRect">
            <a:avLst>
              <a:gd name="adj" fmla="val 15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38600" y="4851360"/>
            <a:ext cx="21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946160" y="2610000"/>
            <a:ext cx="3184560" cy="819000"/>
          </a:xfrm>
          <a:prstGeom prst="roundRect">
            <a:avLst>
              <a:gd name="adj" fmla="val 190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14680" y="2548080"/>
            <a:ext cx="232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76040" y="1179360"/>
            <a:ext cx="9553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ow to determine the luminescence mechanism from DFT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07120" y="1959120"/>
            <a:ext cx="4422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1) Model for photo-em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 gap between the lowest 5d and 4f states of Europium impurities within the host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2) Model for thermal quenc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-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ization of Eu</a:t>
            </a:r>
            <a:r>
              <a:rPr b="0" lang="en-US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→ Eu</a:t>
            </a:r>
            <a:r>
              <a:rPr b="0" lang="en-US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3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e</a:t>
            </a:r>
            <a:r>
              <a:rPr b="0" lang="en-US" sz="20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rgy gap between 5d levels of Eu and the conduction 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89200" y="4227480"/>
            <a:ext cx="53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89200" y="3411360"/>
            <a:ext cx="53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3892680" y="3294000"/>
            <a:ext cx="1440" cy="333360"/>
          </a:xfrm>
          <a:prstGeom prst="line">
            <a:avLst/>
          </a:prstGeom>
          <a:ln w="1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751200" y="3232080"/>
            <a:ext cx="282600" cy="490680"/>
          </a:xfrm>
          <a:prstGeom prst="ellipse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79960" y="6073920"/>
            <a:ext cx="3892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P. Dorenbos J.Phys.Cond.Mat.17 (20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89440" y="28908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mpir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7147080" y="4898880"/>
            <a:ext cx="2689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AW atomic data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or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0280" y="5060880"/>
            <a:ext cx="3006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osition of the 4f and 5d orbitals of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6560" y="5514840"/>
            <a:ext cx="30067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and concentration of Eu impur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475320" y="1959120"/>
            <a:ext cx="265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lectronic structure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19080" y="1927080"/>
            <a:ext cx="2795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76840" y="2122560"/>
            <a:ext cx="1062000" cy="163440"/>
          </a:xfrm>
          <a:custGeom>
            <a:avLst/>
            <a:gdLst>
              <a:gd name="textAreaLeft" fmla="*/ 132480 w 1062000"/>
              <a:gd name="textAreaRight" fmla="*/ 929520 w 1062000"/>
              <a:gd name="textAreaTop" fmla="*/ 40680 h 163440"/>
              <a:gd name="textAreaBottom" fmla="*/ 122760 h 16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5400000">
            <a:off x="7393680" y="3569400"/>
            <a:ext cx="1501920" cy="176400"/>
          </a:xfrm>
          <a:custGeom>
            <a:avLst/>
            <a:gdLst>
              <a:gd name="textAreaLeft" fmla="*/ 138240 w 1501920"/>
              <a:gd name="textAreaRight" fmla="*/ 1363680 w 1501920"/>
              <a:gd name="textAreaTop" fmla="*/ 41400 h 176400"/>
              <a:gd name="textAreaBottom" fmla="*/ 135000 h 176400"/>
            </a:gdLst>
            <a:ahLst/>
            <a:rect l="textAreaLeft" t="textAreaTop" r="textAreaRight" b="textAreaBottom"/>
            <a:pathLst>
              <a:path w="21600" h="21600">
                <a:moveTo>
                  <a:pt x="0" y="5087"/>
                </a:moveTo>
                <a:lnTo>
                  <a:pt x="17839" y="5087"/>
                </a:lnTo>
                <a:lnTo>
                  <a:pt x="17839" y="0"/>
                </a:lnTo>
                <a:lnTo>
                  <a:pt x="21600" y="10800"/>
                </a:lnTo>
                <a:lnTo>
                  <a:pt x="17839" y="21600"/>
                </a:lnTo>
                <a:lnTo>
                  <a:pt x="17839" y="16513"/>
                </a:lnTo>
                <a:lnTo>
                  <a:pt x="0" y="16513"/>
                </a:lnTo>
                <a:lnTo>
                  <a:pt x="1989" y="10800"/>
                </a:lnTo>
                <a:lnTo>
                  <a:pt x="0" y="5087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rot="20700000">
            <a:off x="6934680" y="5457600"/>
            <a:ext cx="704880" cy="163080"/>
          </a:xfrm>
          <a:custGeom>
            <a:avLst/>
            <a:gdLst>
              <a:gd name="textAreaLeft" fmla="*/ 87840 w 704880"/>
              <a:gd name="textAreaRight" fmla="*/ 617040 w 704880"/>
              <a:gd name="textAreaTop" fmla="*/ 40680 h 163080"/>
              <a:gd name="textAreaBottom" fmla="*/ 122400 h 16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rot="900000">
            <a:off x="3531600" y="5544720"/>
            <a:ext cx="704880" cy="163800"/>
          </a:xfrm>
          <a:custGeom>
            <a:avLst/>
            <a:gdLst>
              <a:gd name="textAreaLeft" fmla="*/ 87840 w 704880"/>
              <a:gd name="textAreaRight" fmla="*/ 617040 w 704880"/>
              <a:gd name="textAreaTop" fmla="*/ 41040 h 163800"/>
              <a:gd name="textAreaBottom" fmla="*/ 123120 h 163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147080" y="3754440"/>
            <a:ext cx="24764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 : general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 : DFT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4360" y="252360"/>
            <a:ext cx="234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Cryst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36720" y="1908000"/>
            <a:ext cx="266364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round state structural relax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5661000" y="1631880"/>
            <a:ext cx="3328920" cy="37562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 flipV="1">
            <a:off x="8632800" y="1922400"/>
            <a:ext cx="708120" cy="333360"/>
          </a:xfrm>
          <a:prstGeom prst="line">
            <a:avLst/>
          </a:prstGeom>
          <a:ln w="18000">
            <a:solidFill>
              <a:srgbClr val="ff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128160" y="1631880"/>
            <a:ext cx="566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8080"/>
                </a:solidFill>
                <a:latin typeface="Times New Roman"/>
              </a:rPr>
              <a:t>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6541560" y="4245120"/>
            <a:ext cx="360360" cy="979200"/>
          </a:xfrm>
          <a:prstGeom prst="line">
            <a:avLst/>
          </a:prstGeom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369120" y="522432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137440" y="2776680"/>
            <a:ext cx="990720" cy="293400"/>
          </a:xfrm>
          <a:prstGeom prst="line">
            <a:avLst/>
          </a:prstGeom>
          <a:ln w="18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9128160" y="303696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00080"/>
                </a:solidFill>
                <a:latin typeface="Times New Roman"/>
              </a:rPr>
              <a:t>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15280" y="4245120"/>
            <a:ext cx="1025640" cy="293400"/>
          </a:xfrm>
          <a:prstGeom prst="line">
            <a:avLst/>
          </a:prstGeom>
          <a:ln w="18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9340920" y="437508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8520" y="1828800"/>
            <a:ext cx="46357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tice paramete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T (GGA) with PAW atomic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76040" y="1181160"/>
            <a:ext cx="9553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rystalline structure of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Ba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Si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6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by Abi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255600" y="3003480"/>
          <a:ext cx="5070600" cy="1572840"/>
        </p:xfrm>
        <a:graphic>
          <a:graphicData uri="http://schemas.openxmlformats.org/drawingml/2006/table">
            <a:tbl>
              <a:tblPr/>
              <a:tblGrid>
                <a:gridCol w="1744560"/>
                <a:gridCol w="1679760"/>
                <a:gridCol w="1646280"/>
              </a:tblGrid>
              <a:tr h="52344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rameter </a:t>
                      </a:r>
                      <a:r>
                        <a:rPr b="0" i="1" lang="fr-BE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a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(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Å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rameter </a:t>
                      </a:r>
                      <a:r>
                        <a:rPr b="0" i="1" lang="fr-BE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c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(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Å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370080"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xperimen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5046(8)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4703(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84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[1] Ba without semi-core st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59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5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284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[2] Ba with </a:t>
                      </a:r>
                      <a:br>
                        <a:rPr sz="1500"/>
                      </a:b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emi-core st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61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5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802" name=""/>
          <p:cNvSpPr/>
          <p:nvPr/>
        </p:nvSpPr>
        <p:spPr>
          <a:xfrm>
            <a:off x="9128160" y="1631880"/>
            <a:ext cx="566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8080"/>
                </a:solidFill>
                <a:latin typeface="Times New Roman"/>
              </a:rPr>
              <a:t>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77840" y="1181160"/>
            <a:ext cx="9553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rystalline structure of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Ba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Si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6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by Abi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60720" y="324000"/>
            <a:ext cx="55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rystal structure for oxynit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44360" y="217440"/>
            <a:ext cx="23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Cryst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7680" y="2879640"/>
            <a:ext cx="1768320" cy="569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14880" y="5649840"/>
            <a:ext cx="38214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[1] M. Mikami </a:t>
            </a:r>
            <a:r>
              <a:rPr b="0" i="1" lang="fr-BE" sz="1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., Key Engineering Material Vol. 403 (200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[2] M. Mikami, N. Kijima, B. Bertrand, M. Stankovski and X. Gonze, </a:t>
            </a:r>
            <a:r>
              <a:rPr b="0" i="1" lang="fr-BE" sz="1400" spc="-1" strike="noStrike">
                <a:solidFill>
                  <a:srgbClr val="000000"/>
                </a:solidFill>
                <a:latin typeface="Times New Roman"/>
              </a:rPr>
              <a:t>In press</a:t>
            </a: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5661000" y="1631880"/>
            <a:ext cx="3328920" cy="375624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 flipV="1">
            <a:off x="8632800" y="1922400"/>
            <a:ext cx="708120" cy="333360"/>
          </a:xfrm>
          <a:prstGeom prst="line">
            <a:avLst/>
          </a:prstGeom>
          <a:ln w="18000">
            <a:solidFill>
              <a:srgbClr val="ff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128160" y="1631880"/>
            <a:ext cx="566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8080"/>
                </a:solidFill>
                <a:latin typeface="Times New Roman"/>
              </a:rPr>
              <a:t>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6541560" y="4245120"/>
            <a:ext cx="360360" cy="979200"/>
          </a:xfrm>
          <a:prstGeom prst="line">
            <a:avLst/>
          </a:prstGeom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369120" y="522432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137440" y="2776680"/>
            <a:ext cx="990720" cy="293400"/>
          </a:xfrm>
          <a:prstGeom prst="line">
            <a:avLst/>
          </a:prstGeom>
          <a:ln w="18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128160" y="303696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00080"/>
                </a:solidFill>
                <a:latin typeface="Times New Roman"/>
              </a:rPr>
              <a:t>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315280" y="4245120"/>
            <a:ext cx="1025640" cy="293400"/>
          </a:xfrm>
          <a:prstGeom prst="line">
            <a:avLst/>
          </a:prstGeom>
          <a:ln w="18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9340920" y="437508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8520" y="1828800"/>
            <a:ext cx="463572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tice paramete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FT (GGA) with PAW atomic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76040" y="1181160"/>
            <a:ext cx="9553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rystalline structure of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Ba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Si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6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by Abi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6040" y="4995720"/>
            <a:ext cx="540396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AW atomic data for Ba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coherent with experimental data whether semi-core states are used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14880" y="5649840"/>
            <a:ext cx="38214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[1] M. Mikami </a:t>
            </a:r>
            <a:r>
              <a:rPr b="0" i="1" lang="fr-BE" sz="1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., Key Engineering Material Vol. 403 (200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[2] M. Mikami, N. Kijima, B. Bertrand, M. Stankovski and X. Gonze, </a:t>
            </a:r>
            <a:r>
              <a:rPr b="0" i="1" lang="fr-B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press</a:t>
            </a: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55600" y="3003480"/>
          <a:ext cx="5070600" cy="1572840"/>
        </p:xfrm>
        <a:graphic>
          <a:graphicData uri="http://schemas.openxmlformats.org/drawingml/2006/table">
            <a:tbl>
              <a:tblPr/>
              <a:tblGrid>
                <a:gridCol w="1744560"/>
                <a:gridCol w="1679760"/>
                <a:gridCol w="1646280"/>
              </a:tblGrid>
              <a:tr h="52344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rameter </a:t>
                      </a:r>
                      <a:r>
                        <a:rPr b="0" i="1" lang="fr-BE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a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(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Å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arameter </a:t>
                      </a:r>
                      <a:r>
                        <a:rPr b="0" i="1" lang="fr-BE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c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(</a:t>
                      </a:r>
                      <a:r>
                        <a:rPr b="0" lang="fr-BE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Å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370080"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xperimen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5046(8)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4703(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84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[1] Ba without semi-core st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59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5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284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[2] Ba with </a:t>
                      </a:r>
                      <a:br>
                        <a:rPr sz="1500"/>
                      </a:b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emi-core sta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61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460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5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5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844" name=""/>
          <p:cNvSpPr/>
          <p:nvPr/>
        </p:nvSpPr>
        <p:spPr>
          <a:xfrm>
            <a:off x="9128160" y="1631880"/>
            <a:ext cx="566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8080"/>
                </a:solidFill>
                <a:latin typeface="Times New Roman"/>
              </a:rPr>
              <a:t>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77840" y="1181160"/>
            <a:ext cx="9553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rystalline structure of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Ba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Si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6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12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by Abi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060720" y="324000"/>
            <a:ext cx="55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rystal structure for oxynit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360" y="217440"/>
            <a:ext cx="234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Crysta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7680" y="2879640"/>
            <a:ext cx="1768320" cy="569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19080" y="1927080"/>
            <a:ext cx="2795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776840" y="2122560"/>
            <a:ext cx="1062000" cy="163440"/>
          </a:xfrm>
          <a:custGeom>
            <a:avLst/>
            <a:gdLst>
              <a:gd name="textAreaLeft" fmla="*/ 132480 w 1062000"/>
              <a:gd name="textAreaRight" fmla="*/ 929520 w 1062000"/>
              <a:gd name="textAreaTop" fmla="*/ 40680 h 163440"/>
              <a:gd name="textAreaBottom" fmla="*/ 122760 h 16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147080" y="3754440"/>
            <a:ext cx="24764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 : GW + PAW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912000" y="1836720"/>
            <a:ext cx="2879640" cy="20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ff"/>
                </a:solidFill>
                <a:latin typeface="Arial"/>
              </a:rPr>
              <a:t>Electronic structure</a:t>
            </a:r>
            <a:br>
              <a:rPr sz="2000"/>
            </a:br>
            <a:r>
              <a:rPr b="0" lang="fr-BE" sz="2000" spc="-1" strike="noStrike">
                <a:solidFill>
                  <a:srgbClr val="0000ff"/>
                </a:solidFill>
                <a:latin typeface="Arial"/>
              </a:rPr>
              <a:t>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G</a:t>
            </a:r>
            <a:r>
              <a:rPr b="0" lang="fr-BE" sz="2000" spc="-1" strike="noStrike" baseline="-33000">
                <a:solidFill>
                  <a:srgbClr val="0000ff"/>
                </a:solidFill>
                <a:latin typeface="Arial"/>
                <a:ea typeface="Arial"/>
              </a:rPr>
              <a:t>0</a:t>
            </a:r>
            <a:r>
              <a:rPr b="0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W</a:t>
            </a:r>
            <a:r>
              <a:rPr b="0" lang="fr-BE" sz="2000" spc="-1" strike="noStrike" baseline="-33000">
                <a:solidFill>
                  <a:srgbClr val="0000ff"/>
                </a:solidFill>
                <a:latin typeface="Arial"/>
                <a:ea typeface="Arial"/>
              </a:rPr>
              <a:t>0</a:t>
            </a:r>
            <a:r>
              <a:rPr b="0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 + PAW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11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4920" y="36360"/>
            <a:ext cx="8280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280" y="108000"/>
            <a:ext cx="251964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111640" y="1179360"/>
            <a:ext cx="4761000" cy="4115880"/>
            <a:chOff x="5111640" y="1179360"/>
            <a:chExt cx="4761000" cy="411588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5111640" y="1179360"/>
              <a:ext cx="476100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770440" y="4378320"/>
              <a:ext cx="3443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fr-BE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ross-section of present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fr-BE" sz="1800" spc="-1" strike="noStrike">
                  <a:solidFill>
                    <a:srgbClr val="3333cc"/>
                  </a:solidFill>
                  <a:latin typeface="Arial"/>
                  <a:ea typeface="ＭＳ Ｐゴシック"/>
                </a:rPr>
                <a:t>(Blue-LED </a:t>
              </a:r>
              <a:r>
                <a:rPr b="1" lang="fr-BE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+ </a:t>
              </a:r>
              <a:r>
                <a:rPr b="1" lang="fr-BE" sz="1800" spc="-1" strike="noStrike">
                  <a:solidFill>
                    <a:srgbClr val="ffcf01"/>
                  </a:solidFill>
                  <a:latin typeface="Arial"/>
                  <a:ea typeface="ＭＳ Ｐゴシック"/>
                </a:rPr>
                <a:t>yellow</a:t>
              </a:r>
              <a:r>
                <a:rPr b="1" lang="fr-BE" sz="1800" spc="-1" strike="noStrike">
                  <a:solidFill>
                    <a:srgbClr val="3333cc"/>
                  </a:solidFill>
                  <a:latin typeface="Arial"/>
                  <a:ea typeface="ＭＳ Ｐゴシック"/>
                </a:rPr>
                <a:t> phosph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　板東ら</a:t>
              </a:r>
              <a:r>
                <a:rPr b="0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,</a:t>
              </a:r>
              <a:r>
                <a:rPr b="0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応物</a:t>
              </a:r>
              <a:r>
                <a:rPr b="0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, </a:t>
              </a:r>
              <a:r>
                <a:rPr b="1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71</a:t>
              </a:r>
              <a:r>
                <a:rPr b="0" lang="fr-BE" sz="1800" spc="-1" strike="noStrike">
                  <a:solidFill>
                    <a:srgbClr val="000000"/>
                  </a:solidFill>
                  <a:latin typeface="Tahoma"/>
                  <a:ea typeface="ＭＳ Ｐゴシック"/>
                </a:rPr>
                <a:t>(2002),15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1131840"/>
            <a:ext cx="851688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Conventional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200" spc="-1" strike="noStrike">
                <a:solidFill>
                  <a:srgbClr val="3333cc"/>
                </a:solidFill>
                <a:latin typeface="Arial"/>
              </a:rPr>
              <a:t>Blue-LED 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BE" sz="2200" spc="-1" strike="noStrike">
                <a:solidFill>
                  <a:srgbClr val="ff9900"/>
                </a:solidFill>
                <a:latin typeface="Arial"/>
              </a:rPr>
              <a:t>yellow phosph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New (Next) typ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High color rendering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BE" sz="2200" spc="-1" strike="noStrike">
                <a:solidFill>
                  <a:srgbClr val="3333ff"/>
                </a:solidFill>
                <a:latin typeface="Arial"/>
              </a:rPr>
              <a:t>Blue-LED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BE" sz="2200" spc="-1" strike="noStrike">
                <a:solidFill>
                  <a:srgbClr val="ff9900"/>
                </a:solidFill>
                <a:latin typeface="Arial"/>
              </a:rPr>
              <a:t>yellow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fr-BE" sz="2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6600cc"/>
                </a:solidFill>
                <a:latin typeface="Arial"/>
              </a:rPr>
              <a:t>	</a:t>
            </a:r>
            <a:r>
              <a:rPr b="0" lang="fr-BE" sz="2200" spc="-1" strike="noStrike">
                <a:solidFill>
                  <a:srgbClr val="6600cc"/>
                </a:solidFill>
                <a:latin typeface="Arial"/>
              </a:rPr>
              <a:t>Near UV-LED + </a:t>
            </a:r>
            <a:r>
              <a:rPr b="0" lang="fr-BE" sz="2200" spc="-1" strike="noStrike">
                <a:solidFill>
                  <a:srgbClr val="3333ff"/>
                </a:solidFill>
                <a:latin typeface="Arial"/>
              </a:rPr>
              <a:t>blue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fr-BE" sz="2200" spc="-1" strike="noStrike">
                <a:solidFill>
                  <a:srgbClr val="009900"/>
                </a:solidFill>
                <a:latin typeface="Arial"/>
              </a:rPr>
              <a:t>green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fr-BE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3520"/>
                <a:tab algn="l" pos="368280"/>
                <a:tab algn="l" pos="817560"/>
                <a:tab algn="l" pos="1266840"/>
                <a:tab algn="l" pos="1716120"/>
                <a:tab algn="l" pos="2165400"/>
                <a:tab algn="l" pos="2614680"/>
                <a:tab algn="l" pos="3063960"/>
                <a:tab algn="l" pos="3513240"/>
                <a:tab algn="l" pos="3962520"/>
                <a:tab algn="l" pos="4411800"/>
                <a:tab algn="l" pos="4861080"/>
                <a:tab algn="l" pos="5310360"/>
                <a:tab algn="l" pos="5759280"/>
                <a:tab algn="l" pos="6208560"/>
                <a:tab algn="l" pos="6657840"/>
                <a:tab algn="l" pos="7107120"/>
                <a:tab algn="l" pos="7556400"/>
                <a:tab algn="l" pos="8005680"/>
                <a:tab algn="l" pos="8454960"/>
                <a:tab algn="l" pos="8904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200" spc="-1" strike="noStrike">
                <a:solidFill>
                  <a:srgbClr val="3333ff"/>
                </a:solidFill>
                <a:latin typeface="Arial"/>
              </a:rPr>
              <a:t>Blue-LED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BE" sz="2200" spc="-1" strike="noStrike">
                <a:solidFill>
                  <a:srgbClr val="009900"/>
                </a:solidFill>
                <a:latin typeface="Arial"/>
              </a:rPr>
              <a:t>green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fr-BE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821120" y="2719440"/>
            <a:ext cx="1311480" cy="26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aN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2160" y="2700360"/>
            <a:ext cx="1434960" cy="26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G phosp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19240" y="4511520"/>
            <a:ext cx="4460760" cy="2044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rot="16200000">
            <a:off x="-940680" y="5469480"/>
            <a:ext cx="221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ight</a:t>
            </a: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emitting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diod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or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294160" y="3875040"/>
            <a:ext cx="4065840" cy="2697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639120" y="562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83600" y="573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ecb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34840" y="4965840"/>
            <a:ext cx="173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lacking </a:t>
            </a:r>
            <a:r>
              <a:rPr b="1" lang="fr-BE" sz="22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BE" sz="2200" spc="-1" strike="noStrike">
                <a:solidFill>
                  <a:srgbClr val="00ccff"/>
                </a:solidFill>
                <a:latin typeface="Times New Roman"/>
              </a:rPr>
              <a:t>cool </a:t>
            </a:r>
            <a:r>
              <a:rPr b="1" lang="fr-BE" sz="2200" spc="-1" strike="noStrike">
                <a:solidFill>
                  <a:srgbClr val="00ccff"/>
                </a:solidFill>
                <a:latin typeface="Times New Roman"/>
              </a:rPr>
              <a:t>wh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2920" y="4089240"/>
            <a:ext cx="388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ff3399"/>
                </a:solidFill>
                <a:latin typeface="Times New Roman"/>
              </a:rPr>
              <a:t>New phosphors</a:t>
            </a:r>
            <a:r>
              <a:rPr b="1" lang="fr-BE" sz="2200" spc="-1" strike="noStrike">
                <a:solidFill>
                  <a:srgbClr val="ff3399"/>
                </a:solidFill>
                <a:latin typeface="Times New Roman"/>
              </a:rPr>
              <a:t> to be explored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87800" y="3352680"/>
            <a:ext cx="1673280" cy="40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16200" y="3743280"/>
            <a:ext cx="1639800" cy="349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1800" y="2700360"/>
            <a:ext cx="1344960" cy="26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AG phosp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3036960"/>
            <a:ext cx="197964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</a:rPr>
              <a:t>Blue from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</a:rPr>
              <a:t>Yellow from 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50480" y="1882800"/>
            <a:ext cx="7268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091440" y="2206800"/>
            <a:ext cx="72720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099720" y="2571840"/>
            <a:ext cx="72684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844120" y="3314880"/>
            <a:ext cx="91116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74520" y="1817640"/>
            <a:ext cx="289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ff9900"/>
                </a:solidFill>
                <a:latin typeface="Times New Roman"/>
              </a:rPr>
              <a:t>(typically, Y</a:t>
            </a:r>
            <a:r>
              <a:rPr b="1" lang="fr-BE" sz="20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ff9900"/>
                </a:solidFill>
                <a:latin typeface="Times New Roman"/>
              </a:rPr>
              <a:t>Al</a:t>
            </a:r>
            <a:r>
              <a:rPr b="1" lang="fr-BE" sz="20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1" lang="fr-BE" sz="20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ff9900"/>
                </a:solidFill>
                <a:latin typeface="Times New Roman"/>
              </a:rPr>
              <a:t>12</a:t>
            </a:r>
            <a:r>
              <a:rPr b="1" lang="fr-BE" sz="2000" spc="-1" strike="noStrike">
                <a:solidFill>
                  <a:srgbClr val="ff9900"/>
                </a:solidFill>
                <a:latin typeface="Times New Roman"/>
              </a:rPr>
              <a:t>:Ce</a:t>
            </a:r>
            <a:r>
              <a:rPr b="1" lang="fr-BE" sz="2000" spc="-1" strike="noStrike" baseline="30000">
                <a:solidFill>
                  <a:srgbClr val="ff9900"/>
                </a:solidFill>
                <a:latin typeface="Times New Roman"/>
              </a:rPr>
              <a:t>3+</a:t>
            </a:r>
            <a:r>
              <a:rPr b="1" lang="fr-BE" sz="2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97080" y="287280"/>
            <a:ext cx="50389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hosphor-converted white L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6551640"/>
            <a:ext cx="4572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1109520" y="1914480"/>
            <a:ext cx="695664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Highly covalent oxynitride phosph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Large effects of the screening on the optical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Density functional theory (DFT) fails seriously in the description of band gaps or photoemi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;MS Mincho"/>
              </a:rPr>
              <a:t>The standard way to go beyond is to invoke many-body perturbation theory (MBP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1366920" y="5011560"/>
          <a:ext cx="6958080" cy="1037880"/>
        </p:xfrm>
        <a:graphic>
          <a:graphicData uri="http://schemas.openxmlformats.org/drawingml/2006/table">
            <a:tbl>
              <a:tblPr/>
              <a:tblGrid>
                <a:gridCol w="1650960"/>
                <a:gridCol w="1616040"/>
                <a:gridCol w="1701720"/>
                <a:gridCol w="1989360"/>
              </a:tblGrid>
              <a:tr h="6645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FT indirect gap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G</a:t>
                      </a:r>
                      <a:r>
                        <a:rPr b="0" lang="fr-BE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W</a:t>
                      </a:r>
                      <a:r>
                        <a:rPr b="0" lang="fr-BE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indirect gap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Experimental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gap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4262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Ba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Si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O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N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5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05 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913" name=""/>
          <p:cNvSpPr/>
          <p:nvPr/>
        </p:nvSpPr>
        <p:spPr>
          <a:xfrm>
            <a:off x="176040" y="1181160"/>
            <a:ext cx="9553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Why is it mandatory to invoke a GW correction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255680" y="4967280"/>
            <a:ext cx="1768680" cy="72540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 GW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49440" y="396720"/>
            <a:ext cx="1618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272880" y="1368360"/>
            <a:ext cx="7864560" cy="497520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222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57976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1700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683320" y="633564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34460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75904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26888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45788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587376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672300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5325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8137440" y="1271520"/>
            <a:ext cx="1800" cy="506736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9833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6200000">
            <a:off x="-733320" y="1725480"/>
            <a:ext cx="168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B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 (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137440" y="3233880"/>
            <a:ext cx="530280" cy="1469880"/>
          </a:xfrm>
          <a:custGeom>
            <a:avLst/>
            <a:gdLst>
              <a:gd name="textAreaLeft" fmla="*/ 0 w 530280"/>
              <a:gd name="textAreaRight" fmla="*/ 191520 w 530280"/>
              <a:gd name="textAreaTop" fmla="*/ 38160 h 1469880"/>
              <a:gd name="textAreaBottom" fmla="*/ 1431720 h 14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95360" y="3233880"/>
            <a:ext cx="7607160" cy="1440"/>
          </a:xfrm>
          <a:prstGeom prst="line">
            <a:avLst/>
          </a:prstGeom>
          <a:ln w="18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360" y="4735440"/>
            <a:ext cx="7607160" cy="1800"/>
          </a:xfrm>
          <a:prstGeom prst="line">
            <a:avLst/>
          </a:prstGeom>
          <a:ln w="18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669160" y="3722760"/>
            <a:ext cx="1238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DFT Gap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4.589 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456760" y="5884920"/>
            <a:ext cx="1414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500" spc="-1" strike="noStrike">
                <a:solidFill>
                  <a:srgbClr val="000000"/>
                </a:solidFill>
                <a:latin typeface="Arial"/>
              </a:rPr>
              <a:t>Zoom on the state around the band g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79600" y="0"/>
            <a:ext cx="786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060720" y="360360"/>
            <a:ext cx="5038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W correction to D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4360" y="662472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6659640"/>
            <a:ext cx="4392720" cy="144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38160" y="36360"/>
            <a:ext cx="8280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176040" y="1363680"/>
            <a:ext cx="7961400" cy="50180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3222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57976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1700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683320" y="633564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134460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75904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6888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445788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587376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672300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325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8137440" y="1271520"/>
            <a:ext cx="1800" cy="506736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9833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60720" y="361800"/>
            <a:ext cx="5038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W correction to D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-733320" y="1726920"/>
            <a:ext cx="168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B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 (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84360" y="662472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6659640"/>
            <a:ext cx="4392720" cy="144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38160" y="36360"/>
            <a:ext cx="8280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452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247680" y="1338120"/>
            <a:ext cx="7888320" cy="499608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222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57976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17000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683320" y="633564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134460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75904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268880" y="6340320"/>
            <a:ext cx="3664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445788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873760" y="1238040"/>
            <a:ext cx="144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6723000" y="1238040"/>
            <a:ext cx="1800" cy="506700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5325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8137440" y="1271520"/>
            <a:ext cx="1800" cy="5067360"/>
          </a:xfrm>
          <a:prstGeom prst="line">
            <a:avLst/>
          </a:prstGeom>
          <a:ln w="18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983360" y="6340320"/>
            <a:ext cx="366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137440" y="2776680"/>
            <a:ext cx="530280" cy="2286000"/>
          </a:xfrm>
          <a:custGeom>
            <a:avLst/>
            <a:gdLst>
              <a:gd name="textAreaLeft" fmla="*/ 0 w 530280"/>
              <a:gd name="textAreaRight" fmla="*/ 191520 w 530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95360" y="2841480"/>
            <a:ext cx="7607160" cy="1800"/>
          </a:xfrm>
          <a:prstGeom prst="line">
            <a:avLst/>
          </a:prstGeom>
          <a:ln w="18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95360" y="5062680"/>
            <a:ext cx="7607160" cy="1440"/>
          </a:xfrm>
          <a:prstGeom prst="line">
            <a:avLst/>
          </a:prstGeom>
          <a:ln w="18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669160" y="3722760"/>
            <a:ext cx="12384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5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BE" sz="15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fr-BE" sz="15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fr-BE" sz="15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fr-BE" sz="1500" spc="-1" strike="noStrike">
                <a:solidFill>
                  <a:srgbClr val="000000"/>
                </a:solidFill>
                <a:latin typeface="Arial"/>
              </a:rPr>
              <a:t> Gap 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500" spc="-1" strike="noStrike">
                <a:solidFill>
                  <a:srgbClr val="000000"/>
                </a:solidFill>
                <a:latin typeface="Arial"/>
              </a:rPr>
              <a:t>6.772 e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16200000">
            <a:off x="-733320" y="1726920"/>
            <a:ext cx="1681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B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 (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60720" y="361800"/>
            <a:ext cx="5038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W correction to D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4360" y="662472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5640" y="6659640"/>
            <a:ext cx="4392720" cy="144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4459320" y="1471680"/>
            <a:ext cx="4719600" cy="393372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79200" y="1476360"/>
            <a:ext cx="4600800" cy="392580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546920" y="1165320"/>
            <a:ext cx="19958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2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242760" y="1190520"/>
            <a:ext cx="19148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fr-BE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4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60480" y="5413320"/>
            <a:ext cx="42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 peak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∼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530nm (G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ＭＳ Ｐゴシック"/>
              </a:rPr>
              <a:t>strong luminescence@R.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256360" y="5411880"/>
            <a:ext cx="44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 peak </a:t>
            </a:r>
            <a:r>
              <a:rPr b="1" lang="fr-BE" sz="2200" spc="-1" strike="noStrike">
                <a:solidFill>
                  <a:srgbClr val="000000"/>
                </a:solidFill>
                <a:latin typeface="Symbol"/>
                <a:ea typeface="Symbol"/>
              </a:rPr>
              <a:t>∼</a:t>
            </a:r>
            <a:r>
              <a:rPr b="1" lang="fr-BE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fr-BE" sz="2200" spc="-1" strike="noStrike">
                <a:solidFill>
                  <a:srgbClr val="008080"/>
                </a:solidFill>
                <a:latin typeface="Times New Roman"/>
                <a:ea typeface="ＭＳ Ｐゴシック"/>
              </a:rPr>
              <a:t>480nm (Blue-g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quenching @ R.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095640" y="1935000"/>
            <a:ext cx="53496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18280" y="1976400"/>
            <a:ext cx="1249560" cy="1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178000" y="15840"/>
            <a:ext cx="185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924360" y="613404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hed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2007), MM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2009); see also, C. Brau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736720" y="289080"/>
            <a:ext cx="5757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Ba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u  f-d e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9440" y="396720"/>
            <a:ext cx="1618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4" name=""/>
          <p:cNvGraphicFramePr/>
          <p:nvPr/>
        </p:nvGraphicFramePr>
        <p:xfrm>
          <a:off x="695160" y="4264200"/>
          <a:ext cx="6958080" cy="1423440"/>
        </p:xfrm>
        <a:graphic>
          <a:graphicData uri="http://schemas.openxmlformats.org/drawingml/2006/table">
            <a:tbl>
              <a:tblPr/>
              <a:tblGrid>
                <a:gridCol w="1651320"/>
                <a:gridCol w="1616040"/>
                <a:gridCol w="1701720"/>
                <a:gridCol w="1989000"/>
              </a:tblGrid>
              <a:tr h="615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GW indirect gap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GW direct gap at 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Experimental gap (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4262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1) Ba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Si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O</a:t>
                      </a:r>
                      <a:r>
                        <a:rPr b="0" lang="en-US" sz="1800" spc="-1" strike="noStrike" baseline="-33000">
                          <a:solidFill>
                            <a:srgbClr val="ff0000"/>
                          </a:solidFill>
                          <a:latin typeface="Arial"/>
                          <a:ea typeface="CMR10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N</a:t>
                      </a:r>
                      <a:r>
                        <a:rPr b="0" lang="en-US" sz="1800" spc="-1" strike="noStrike" baseline="-33000">
                          <a:solidFill>
                            <a:srgbClr val="ff0000"/>
                          </a:solidFill>
                          <a:latin typeface="Arial"/>
                          <a:ea typeface="CMR10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7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0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05 </a:t>
                      </a: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234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2) Ba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Si</a:t>
                      </a:r>
                      <a:r>
                        <a:rPr b="0" lang="en-US" sz="18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O</a:t>
                      </a:r>
                      <a:r>
                        <a:rPr b="0" lang="en-US" sz="1800" spc="-1" strike="noStrike" baseline="-33000">
                          <a:solidFill>
                            <a:srgbClr val="ff0000"/>
                          </a:solidFill>
                          <a:latin typeface="Arial"/>
                          <a:ea typeface="CMR10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N</a:t>
                      </a:r>
                      <a:r>
                        <a:rPr b="0" lang="en-US" sz="1800" spc="-1" strike="noStrike" baseline="-33000">
                          <a:solidFill>
                            <a:srgbClr val="ff0000"/>
                          </a:solidFill>
                          <a:latin typeface="Arial"/>
                          <a:ea typeface="CMR10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4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065" name=""/>
          <p:cNvSpPr/>
          <p:nvPr/>
        </p:nvSpPr>
        <p:spPr>
          <a:xfrm>
            <a:off x="763560" y="5770440"/>
            <a:ext cx="72532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Grid of 30 k-points with a (controlled) numerical error of 0.06 e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14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4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Grid of 14 k-points with a (controlled) numerical error of 0.06 e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ison of energy g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38520" y="36360"/>
            <a:ext cx="144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08120" y="1371600"/>
            <a:ext cx="757224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materials with similar composition but different thermal quen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1) Ba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1800" spc="-1" strike="noStrike" baseline="-33000">
                <a:solidFill>
                  <a:srgbClr val="ff0000"/>
                </a:solidFill>
                <a:latin typeface="Arial"/>
                <a:ea typeface="CMR10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1800" spc="-1" strike="noStrike" baseline="-33000">
                <a:solidFill>
                  <a:srgbClr val="ff0000"/>
                </a:solidFill>
                <a:latin typeface="Arial"/>
                <a:ea typeface="CMR10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+ Eu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Strong luminescence at room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2) Ba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1800" spc="-1" strike="noStrike" baseline="-33000">
                <a:solidFill>
                  <a:srgbClr val="ff0000"/>
                </a:solidFill>
                <a:latin typeface="Arial"/>
                <a:ea typeface="CMR10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1800" spc="-1" strike="noStrike" baseline="-33000">
                <a:solidFill>
                  <a:srgbClr val="ff0000"/>
                </a:solidFill>
                <a:latin typeface="Arial"/>
                <a:ea typeface="CMR10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+ Eu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: Little luminescence at room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esults are in agreement with the auto-ionization model to explain the better thermal properties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907400" y="5324400"/>
            <a:ext cx="1979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Nband (SCR) : 4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Nband (SIG) : 4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Gwencomp (SCR) : 2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Gwencomp (SIG) :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Ecuteps : 7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Ecutsigx : 20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127320" y="460548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541520" y="4829040"/>
            <a:ext cx="2527200" cy="298440"/>
          </a:xfrm>
          <a:prstGeom prst="roundRect">
            <a:avLst>
              <a:gd name="adj" fmla="val 52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805040" y="4846680"/>
            <a:ext cx="1985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541520" y="2122560"/>
            <a:ext cx="2527200" cy="1306440"/>
          </a:xfrm>
          <a:prstGeom prst="roundRect">
            <a:avLst>
              <a:gd name="adj" fmla="val 12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733400" y="2494080"/>
            <a:ext cx="2114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456320" y="3693960"/>
            <a:ext cx="279720" cy="601920"/>
          </a:xfrm>
          <a:custGeom>
            <a:avLst/>
            <a:gdLst>
              <a:gd name="textAreaLeft" fmla="*/ 360 w 279720"/>
              <a:gd name="textAreaRight" fmla="*/ 279360 w 27972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448">
                <a:moveTo>
                  <a:pt x="122" y="0"/>
                </a:moveTo>
                <a:arcTo wR="122" hR="122" stAng="16200000" swAng="-5400000"/>
                <a:lnTo>
                  <a:pt x="0" y="46326"/>
                </a:lnTo>
                <a:arcTo wR="122" hR="122" stAng="10800000" swAng="-5400000"/>
                <a:lnTo>
                  <a:pt x="21478" y="4644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531200" y="460548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943600" y="4829040"/>
            <a:ext cx="2527200" cy="298440"/>
          </a:xfrm>
          <a:prstGeom prst="roundRect">
            <a:avLst>
              <a:gd name="adj" fmla="val 52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88200" y="36831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032680" y="343692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885080" y="36831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207120" y="4846680"/>
            <a:ext cx="1986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140520" y="2317680"/>
            <a:ext cx="2527200" cy="1436760"/>
          </a:xfrm>
          <a:prstGeom prst="roundRect">
            <a:avLst>
              <a:gd name="adj" fmla="val 10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191280" y="2487600"/>
            <a:ext cx="2114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946160" y="4572000"/>
            <a:ext cx="17686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334200" y="4572000"/>
            <a:ext cx="176832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016000" y="3984480"/>
            <a:ext cx="1592280" cy="180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22560" y="457200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016000" y="3166920"/>
            <a:ext cx="1592280" cy="180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016000" y="3363840"/>
            <a:ext cx="1592280" cy="180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016000" y="326556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369120" y="391968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369120" y="3821040"/>
            <a:ext cx="1592280" cy="180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69120" y="333072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369120" y="3527280"/>
            <a:ext cx="1592280" cy="180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369120" y="342900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068720" y="3429000"/>
            <a:ext cx="1946160" cy="32688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033800" y="4865760"/>
            <a:ext cx="1946160" cy="144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379520" y="3395520"/>
            <a:ext cx="176400" cy="1470240"/>
          </a:xfrm>
          <a:custGeom>
            <a:avLst/>
            <a:gdLst>
              <a:gd name="textAreaLeft" fmla="*/ 112680 w 176400"/>
              <a:gd name="textAreaRight" fmla="*/ 176760 w 176400"/>
              <a:gd name="textAreaTop" fmla="*/ 38160 h 1470240"/>
              <a:gd name="textAreaBottom" fmla="*/ 1432080 h 147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56760" y="3755880"/>
            <a:ext cx="176040" cy="1143000"/>
          </a:xfrm>
          <a:custGeom>
            <a:avLst/>
            <a:gdLst>
              <a:gd name="textAreaLeft" fmla="*/ 0 w 176040"/>
              <a:gd name="textAreaRight" fmla="*/ 63360 w 1760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9840" y="3951360"/>
            <a:ext cx="13446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6.772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597880" y="4091040"/>
            <a:ext cx="1238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6.443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946160" y="5224320"/>
            <a:ext cx="15256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545160" y="5197320"/>
            <a:ext cx="1554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494400" y="4303800"/>
            <a:ext cx="405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94400" y="3487680"/>
            <a:ext cx="53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7202520" y="3565440"/>
            <a:ext cx="1440" cy="333360"/>
          </a:xfrm>
          <a:prstGeom prst="line">
            <a:avLst/>
          </a:prstGeom>
          <a:ln w="1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7202520" y="3565440"/>
            <a:ext cx="1440" cy="333360"/>
          </a:xfrm>
          <a:prstGeom prst="line">
            <a:avLst/>
          </a:prstGeom>
          <a:ln w="180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22560" y="4299120"/>
            <a:ext cx="404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22560" y="3449520"/>
            <a:ext cx="530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016000" y="3886200"/>
            <a:ext cx="1592280" cy="1440"/>
          </a:xfrm>
          <a:prstGeom prst="line">
            <a:avLst/>
          </a:prstGeom>
          <a:ln w="1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8160" y="36360"/>
            <a:ext cx="8280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73996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42920" y="23976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Host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lectronic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60720" y="325440"/>
            <a:ext cx="6659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mparison of energ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6475320" y="1959120"/>
            <a:ext cx="265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lectronic structure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919080" y="1927080"/>
            <a:ext cx="2795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776840" y="2122560"/>
            <a:ext cx="1062000" cy="163440"/>
          </a:xfrm>
          <a:custGeom>
            <a:avLst/>
            <a:gdLst>
              <a:gd name="textAreaLeft" fmla="*/ 132480 w 1062000"/>
              <a:gd name="textAreaRight" fmla="*/ 929520 w 1062000"/>
              <a:gd name="textAreaTop" fmla="*/ 40680 h 163440"/>
              <a:gd name="textAreaBottom" fmla="*/ 122760 h 16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5400000">
            <a:off x="7393680" y="3569400"/>
            <a:ext cx="1501920" cy="176400"/>
          </a:xfrm>
          <a:custGeom>
            <a:avLst/>
            <a:gdLst>
              <a:gd name="textAreaLeft" fmla="*/ 138240 w 1501920"/>
              <a:gd name="textAreaRight" fmla="*/ 1363680 w 1501920"/>
              <a:gd name="textAreaTop" fmla="*/ 41400 h 176400"/>
              <a:gd name="textAreaBottom" fmla="*/ 135000 h 176400"/>
            </a:gdLst>
            <a:ahLst/>
            <a:rect l="textAreaLeft" t="textAreaTop" r="textAreaRight" b="textAreaBottom"/>
            <a:pathLst>
              <a:path w="21600" h="21600">
                <a:moveTo>
                  <a:pt x="0" y="5087"/>
                </a:moveTo>
                <a:lnTo>
                  <a:pt x="17839" y="5087"/>
                </a:lnTo>
                <a:lnTo>
                  <a:pt x="17839" y="0"/>
                </a:lnTo>
                <a:lnTo>
                  <a:pt x="21600" y="10800"/>
                </a:lnTo>
                <a:lnTo>
                  <a:pt x="17839" y="21600"/>
                </a:lnTo>
                <a:lnTo>
                  <a:pt x="17839" y="16513"/>
                </a:lnTo>
                <a:lnTo>
                  <a:pt x="0" y="16513"/>
                </a:lnTo>
                <a:lnTo>
                  <a:pt x="1989" y="10800"/>
                </a:lnTo>
                <a:lnTo>
                  <a:pt x="0" y="5087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147080" y="3754440"/>
            <a:ext cx="24764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 : PAW atom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983280" y="4753080"/>
            <a:ext cx="2735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</a:rPr>
              <a:t>PAW atomic data</a:t>
            </a:r>
            <a:br>
              <a:rPr sz="2000"/>
            </a:br>
            <a:r>
              <a:rPr b="1" lang="fr-BE" sz="2000" spc="-1" strike="noStrike">
                <a:solidFill>
                  <a:srgbClr val="0000ff"/>
                </a:solidFill>
                <a:latin typeface="Arial"/>
              </a:rPr>
              <a:t>for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Semi-core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2920" y="23652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tomic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565200" y="4417920"/>
            <a:ext cx="31845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Europ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5" name=""/>
          <p:cNvGraphicFramePr/>
          <p:nvPr/>
        </p:nvGraphicFramePr>
        <p:xfrm>
          <a:off x="4653000" y="1819440"/>
          <a:ext cx="4693680" cy="2009160"/>
        </p:xfrm>
        <a:graphic>
          <a:graphicData uri="http://schemas.openxmlformats.org/drawingml/2006/table">
            <a:tbl>
              <a:tblPr/>
              <a:tblGrid>
                <a:gridCol w="1650240"/>
                <a:gridCol w="1658160"/>
                <a:gridCol w="1385280"/>
              </a:tblGrid>
              <a:tr h="600840"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Ba</a:t>
                      </a:r>
                      <a:r>
                        <a:rPr b="0" lang="en-US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Si</a:t>
                      </a:r>
                      <a:r>
                        <a:rPr b="0" lang="en-US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O</a:t>
                      </a:r>
                      <a:r>
                        <a:rPr b="0" lang="en-US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N</a:t>
                      </a:r>
                      <a:r>
                        <a:rPr b="0" lang="en-US" sz="18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CMR10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G</a:t>
                      </a:r>
                      <a:r>
                        <a:rPr b="0" lang="fr-BE" sz="16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W</a:t>
                      </a:r>
                      <a:r>
                        <a:rPr b="0" lang="fr-BE" sz="16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indirect gap (e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G</a:t>
                      </a:r>
                      <a:r>
                        <a:rPr b="0" lang="fr-BE" sz="16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W</a:t>
                      </a:r>
                      <a:r>
                        <a:rPr b="0" lang="fr-BE" sz="1600" spc="-1" strike="noStrike" baseline="-33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</a:t>
                      </a: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direct gap (e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55120"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4d semi-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.7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 -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557640"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Withou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MR10"/>
                        </a:rPr>
                        <a:t>semi-core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 -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523440"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712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1186" name=""/>
          <p:cNvSpPr/>
          <p:nvPr/>
        </p:nvSpPr>
        <p:spPr>
          <a:xfrm>
            <a:off x="1768320" y="2052720"/>
            <a:ext cx="2476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emi-core : 4d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10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5s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Valence : 5p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6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6p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0280" y="2025720"/>
            <a:ext cx="1809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127240" y="4443480"/>
            <a:ext cx="3073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emi-core : 4d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10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5s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Valence : 5p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6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4f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7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6p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95360" y="5256360"/>
            <a:ext cx="919944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Test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correction to EuO : - Introduction of semi-core 4d</a:t>
            </a:r>
            <a:r>
              <a:rPr b="0" lang="fr-BE" sz="2000" spc="-1" strike="noStrike" baseline="33000">
                <a:solidFill>
                  <a:srgbClr val="000000"/>
                </a:solidFill>
                <a:latin typeface="Arial"/>
              </a:rPr>
              <a:t>10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st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blems with the correction of 4f state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961400" y="3540240"/>
            <a:ext cx="1414440" cy="490320"/>
          </a:xfrm>
          <a:prstGeom prst="roundRect">
            <a:avLst>
              <a:gd name="adj" fmla="val 3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ion of PAW atom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42920" y="23652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tomic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42920" y="236520"/>
            <a:ext cx="2300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Atomic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7520" y="1185840"/>
            <a:ext cx="937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mi-core states are required in order to make sensible the G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33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cor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7147080" y="4898880"/>
            <a:ext cx="2689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AW atomic data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or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475320" y="1959120"/>
            <a:ext cx="265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lectronic structure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919080" y="1927080"/>
            <a:ext cx="2795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776840" y="2122560"/>
            <a:ext cx="1062000" cy="163440"/>
          </a:xfrm>
          <a:custGeom>
            <a:avLst/>
            <a:gdLst>
              <a:gd name="textAreaLeft" fmla="*/ 132480 w 1062000"/>
              <a:gd name="textAreaRight" fmla="*/ 929520 w 1062000"/>
              <a:gd name="textAreaTop" fmla="*/ 40680 h 163440"/>
              <a:gd name="textAreaBottom" fmla="*/ 122760 h 16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5400000">
            <a:off x="7393680" y="3569400"/>
            <a:ext cx="1501920" cy="176400"/>
          </a:xfrm>
          <a:custGeom>
            <a:avLst/>
            <a:gdLst>
              <a:gd name="textAreaLeft" fmla="*/ 138240 w 1501920"/>
              <a:gd name="textAreaRight" fmla="*/ 1363680 w 1501920"/>
              <a:gd name="textAreaTop" fmla="*/ 41400 h 176400"/>
              <a:gd name="textAreaBottom" fmla="*/ 135000 h 176400"/>
            </a:gdLst>
            <a:ahLst/>
            <a:rect l="textAreaLeft" t="textAreaTop" r="textAreaRight" b="textAreaBottom"/>
            <a:pathLst>
              <a:path w="21600" h="21600">
                <a:moveTo>
                  <a:pt x="0" y="5087"/>
                </a:moveTo>
                <a:lnTo>
                  <a:pt x="17839" y="5087"/>
                </a:lnTo>
                <a:lnTo>
                  <a:pt x="17839" y="0"/>
                </a:lnTo>
                <a:lnTo>
                  <a:pt x="21600" y="10800"/>
                </a:lnTo>
                <a:lnTo>
                  <a:pt x="17839" y="21600"/>
                </a:lnTo>
                <a:lnTo>
                  <a:pt x="17839" y="16513"/>
                </a:lnTo>
                <a:lnTo>
                  <a:pt x="0" y="16513"/>
                </a:lnTo>
                <a:lnTo>
                  <a:pt x="1989" y="10800"/>
                </a:lnTo>
                <a:lnTo>
                  <a:pt x="0" y="5087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 rot="20700000">
            <a:off x="6934680" y="5457600"/>
            <a:ext cx="704880" cy="163080"/>
          </a:xfrm>
          <a:custGeom>
            <a:avLst/>
            <a:gdLst>
              <a:gd name="textAreaLeft" fmla="*/ 87840 w 704880"/>
              <a:gd name="textAreaRight" fmla="*/ 617040 w 704880"/>
              <a:gd name="textAreaTop" fmla="*/ 40680 h 163080"/>
              <a:gd name="textAreaBottom" fmla="*/ 122400 h 16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147080" y="3754440"/>
            <a:ext cx="24764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600360" y="5003640"/>
            <a:ext cx="3348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ff"/>
                </a:solidFill>
                <a:latin typeface="Arial"/>
              </a:rPr>
              <a:t>Position and concentration of Eu imp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ff"/>
                </a:solidFill>
                <a:latin typeface="Arial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pin polarized GGA(+U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44360" y="225360"/>
            <a:ext cx="234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u impu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5040" y="14040"/>
            <a:ext cx="95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Phosphor Handbook”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47600" y="1266840"/>
            <a:ext cx="6656400" cy="5238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977880" y="4459320"/>
            <a:ext cx="208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9900"/>
                </a:solidFill>
                <a:latin typeface="Symbol"/>
                <a:ea typeface="Symbol"/>
              </a:rPr>
              <a:t>β</a:t>
            </a:r>
            <a:r>
              <a:rPr b="1" lang="fr-BE" sz="2200" spc="-1" strike="noStrike">
                <a:solidFill>
                  <a:srgbClr val="009900"/>
                </a:solidFill>
                <a:latin typeface="Times New Roman"/>
              </a:rPr>
              <a:t>-SiAlON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45200" y="1217520"/>
            <a:ext cx="274716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(-green) nitride?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3333cc"/>
                </a:solidFill>
                <a:latin typeface="Times New Roman"/>
              </a:rPr>
              <a:t>AlN:Eu2+,Si4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BaSi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7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10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7120" y="5781600"/>
            <a:ext cx="2583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(Sr,Ca)AlSiN</a:t>
            </a:r>
            <a:r>
              <a:rPr b="1" lang="fr-BE" sz="2200" spc="-1" strike="noStrike" baseline="-25000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SrAlSi</a:t>
            </a:r>
            <a:r>
              <a:rPr b="1" lang="fr-BE" sz="2200" spc="-1" strike="noStrike" baseline="-25000">
                <a:solidFill>
                  <a:srgbClr val="ff6600"/>
                </a:solidFill>
                <a:latin typeface="Times New Roman"/>
              </a:rPr>
              <a:t>4</a:t>
            </a: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ff6600"/>
                </a:solidFill>
                <a:latin typeface="Times New Roman"/>
              </a:rPr>
              <a:t>7</a:t>
            </a: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31520" y="2359080"/>
            <a:ext cx="229428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 u="sng">
                <a:solidFill>
                  <a:srgbClr val="009900"/>
                </a:solidFill>
                <a:uFillTx/>
                <a:latin typeface="Times New Roman"/>
              </a:rPr>
              <a:t>Ba</a:t>
            </a:r>
            <a:r>
              <a:rPr b="1" lang="fr-BE" sz="2200" spc="-1" strike="noStrike" u="sng" baseline="-25000">
                <a:solidFill>
                  <a:srgbClr val="009900"/>
                </a:solidFill>
                <a:uFillTx/>
                <a:latin typeface="Times New Roman"/>
              </a:rPr>
              <a:t>3</a:t>
            </a:r>
            <a:r>
              <a:rPr b="1" lang="fr-BE" sz="2200" spc="-1" strike="noStrike" u="sng">
                <a:solidFill>
                  <a:srgbClr val="009900"/>
                </a:solidFill>
                <a:uFillTx/>
                <a:latin typeface="Times New Roman"/>
              </a:rPr>
              <a:t>Si</a:t>
            </a:r>
            <a:r>
              <a:rPr b="1" lang="fr-BE" sz="2200" spc="-1" strike="noStrike" u="sng" baseline="-25000">
                <a:solidFill>
                  <a:srgbClr val="009900"/>
                </a:solidFill>
                <a:uFillTx/>
                <a:latin typeface="Times New Roman"/>
              </a:rPr>
              <a:t>6</a:t>
            </a:r>
            <a:r>
              <a:rPr b="1" lang="fr-BE" sz="2200" spc="-1" strike="noStrike" u="sng">
                <a:solidFill>
                  <a:srgbClr val="009900"/>
                </a:solidFill>
                <a:uFillTx/>
                <a:latin typeface="Times New Roman"/>
              </a:rPr>
              <a:t>O</a:t>
            </a:r>
            <a:r>
              <a:rPr b="1" lang="fr-BE" sz="2200" spc="-1" strike="noStrike" u="sng" baseline="-25000">
                <a:solidFill>
                  <a:srgbClr val="009900"/>
                </a:solidFill>
                <a:uFillTx/>
                <a:latin typeface="Times New Roman"/>
              </a:rPr>
              <a:t>12</a:t>
            </a:r>
            <a:r>
              <a:rPr b="1" lang="fr-BE" sz="2200" spc="-1" strike="noStrike" u="sng">
                <a:solidFill>
                  <a:srgbClr val="009900"/>
                </a:solidFill>
                <a:uFillTx/>
                <a:latin typeface="Times New Roman"/>
              </a:rPr>
              <a:t>N</a:t>
            </a:r>
            <a:r>
              <a:rPr b="1" lang="fr-BE" sz="2200" spc="-1" strike="noStrike" u="sng" baseline="-25000">
                <a:solidFill>
                  <a:srgbClr val="009900"/>
                </a:solidFill>
                <a:uFillTx/>
                <a:latin typeface="Times New Roman"/>
              </a:rPr>
              <a:t>2</a:t>
            </a:r>
            <a:r>
              <a:rPr b="1" lang="fr-BE" sz="2200" spc="-1" strike="noStrike" u="sng">
                <a:solidFill>
                  <a:srgbClr val="009900"/>
                </a:solidFill>
                <a:uFillTx/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Ba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3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Si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6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9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4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Ba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Si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009999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13440" y="4915080"/>
            <a:ext cx="3170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3333cc"/>
                </a:solidFill>
                <a:latin typeface="Times New Roman"/>
              </a:rPr>
              <a:t>LaSi</a:t>
            </a:r>
            <a:r>
              <a:rPr b="1" lang="fr-BE" sz="22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fr-BE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fr-BE" sz="2200" spc="-1" strike="noStrike">
                <a:solidFill>
                  <a:srgbClr val="3333cc"/>
                </a:solidFill>
                <a:latin typeface="Times New Roman"/>
              </a:rPr>
              <a:t>:Ce3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24320" y="5297400"/>
            <a:ext cx="198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ccc700"/>
                </a:solidFill>
                <a:latin typeface="Times New Roman"/>
              </a:rPr>
              <a:t>La</a:t>
            </a:r>
            <a:r>
              <a:rPr b="1" lang="fr-BE" sz="2200" spc="-1" strike="noStrike" baseline="-25000">
                <a:solidFill>
                  <a:srgbClr val="ccc700"/>
                </a:solidFill>
                <a:latin typeface="Times New Roman"/>
              </a:rPr>
              <a:t>3</a:t>
            </a:r>
            <a:r>
              <a:rPr b="1" lang="fr-BE" sz="2200" spc="-1" strike="noStrike">
                <a:solidFill>
                  <a:srgbClr val="ccc700"/>
                </a:solidFill>
                <a:latin typeface="Times New Roman"/>
              </a:rPr>
              <a:t>Si</a:t>
            </a:r>
            <a:r>
              <a:rPr b="1" lang="fr-BE" sz="2200" spc="-1" strike="noStrike" baseline="-25000">
                <a:solidFill>
                  <a:srgbClr val="ccc700"/>
                </a:solidFill>
                <a:latin typeface="Times New Roman"/>
              </a:rPr>
              <a:t>6</a:t>
            </a:r>
            <a:r>
              <a:rPr b="1" lang="fr-BE" sz="2200" spc="-1" strike="noStrike">
                <a:solidFill>
                  <a:srgbClr val="ccc700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ccc700"/>
                </a:solidFill>
                <a:latin typeface="Times New Roman"/>
              </a:rPr>
              <a:t>11</a:t>
            </a:r>
            <a:r>
              <a:rPr b="1" lang="fr-BE" sz="2200" spc="-1" strike="noStrike">
                <a:solidFill>
                  <a:srgbClr val="ccc700"/>
                </a:solidFill>
                <a:latin typeface="Times New Roman"/>
              </a:rPr>
              <a:t>:Ce3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68600" y="1665360"/>
            <a:ext cx="135000" cy="674640"/>
          </a:xfrm>
          <a:custGeom>
            <a:avLst/>
            <a:gdLst>
              <a:gd name="textAreaLeft" fmla="*/ 86400 w 135000"/>
              <a:gd name="textAreaRight" fmla="*/ 135360 w 135000"/>
              <a:gd name="textAreaTop" fmla="*/ 17280 h 674640"/>
              <a:gd name="textAreaBottom" fmla="*/ 657360 h 6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43040" y="2519280"/>
            <a:ext cx="158760" cy="773280"/>
          </a:xfrm>
          <a:custGeom>
            <a:avLst/>
            <a:gdLst>
              <a:gd name="textAreaLeft" fmla="*/ 101520 w 158760"/>
              <a:gd name="textAreaRight" fmla="*/ 159120 w 158760"/>
              <a:gd name="textAreaTop" fmla="*/ 20160 h 773280"/>
              <a:gd name="textAreaBottom" fmla="*/ 753120 h 77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76520" y="3475080"/>
            <a:ext cx="90360" cy="665280"/>
          </a:xfrm>
          <a:custGeom>
            <a:avLst/>
            <a:gdLst>
              <a:gd name="textAreaLeft" fmla="*/ 57960 w 90360"/>
              <a:gd name="textAreaRight" fmla="*/ 90720 w 90360"/>
              <a:gd name="textAreaTop" fmla="*/ 17280 h 665280"/>
              <a:gd name="textAreaBottom" fmla="*/ 648000 h 66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76520" y="4950000"/>
            <a:ext cx="135000" cy="1439640"/>
          </a:xfrm>
          <a:custGeom>
            <a:avLst/>
            <a:gdLst>
              <a:gd name="textAreaLeft" fmla="*/ 86400 w 135000"/>
              <a:gd name="textAreaRight" fmla="*/ 135360 w 135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05520" y="3495600"/>
            <a:ext cx="2576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99cc00"/>
                </a:solidFill>
                <a:latin typeface="Times New Roman"/>
              </a:rPr>
              <a:t>Sr</a:t>
            </a:r>
            <a:r>
              <a:rPr b="1" lang="fr-BE" sz="2200" spc="-1" strike="noStrike" baseline="-25000">
                <a:solidFill>
                  <a:srgbClr val="99cc00"/>
                </a:solidFill>
                <a:latin typeface="Times New Roman"/>
              </a:rPr>
              <a:t>1</a:t>
            </a:r>
            <a:r>
              <a:rPr b="1" lang="fr-BE" sz="2200" spc="-1" strike="noStrike">
                <a:solidFill>
                  <a:srgbClr val="99cc00"/>
                </a:solidFill>
                <a:latin typeface="Times New Roman"/>
              </a:rPr>
              <a:t>Si</a:t>
            </a:r>
            <a:r>
              <a:rPr b="1" lang="fr-BE" sz="2200" spc="-1" strike="noStrike" baseline="-25000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99cc00"/>
                </a:solidFill>
                <a:latin typeface="Times New Roman"/>
              </a:rPr>
              <a:t>O</a:t>
            </a:r>
            <a:r>
              <a:rPr b="1" lang="fr-BE" sz="2200" spc="-1" strike="noStrike" baseline="-25000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99cc00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99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99cc00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cccc00"/>
                </a:solidFill>
                <a:latin typeface="Times New Roman"/>
              </a:rPr>
              <a:t>Ca</a:t>
            </a:r>
            <a:r>
              <a:rPr b="1" lang="fr-BE" sz="2200" spc="-1" strike="noStrike" baseline="-25000">
                <a:solidFill>
                  <a:srgbClr val="cccc00"/>
                </a:solidFill>
                <a:latin typeface="Times New Roman"/>
              </a:rPr>
              <a:t>1</a:t>
            </a:r>
            <a:r>
              <a:rPr b="1" lang="fr-BE" sz="2200" spc="-1" strike="noStrike">
                <a:solidFill>
                  <a:srgbClr val="cccc00"/>
                </a:solidFill>
                <a:latin typeface="Times New Roman"/>
              </a:rPr>
              <a:t>Si</a:t>
            </a:r>
            <a:r>
              <a:rPr b="1" lang="fr-BE" sz="2200" spc="-1" strike="noStrike" baseline="-25000">
                <a:solidFill>
                  <a:srgbClr val="cc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cccc00"/>
                </a:solidFill>
                <a:latin typeface="Times New Roman"/>
              </a:rPr>
              <a:t>O</a:t>
            </a:r>
            <a:r>
              <a:rPr b="1" lang="fr-BE" sz="2200" spc="-1" strike="noStrike" baseline="-25000">
                <a:solidFill>
                  <a:srgbClr val="cc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cccc00"/>
                </a:solidFill>
                <a:latin typeface="Times New Roman"/>
              </a:rPr>
              <a:t>N</a:t>
            </a:r>
            <a:r>
              <a:rPr b="1" lang="fr-BE" sz="2200" spc="-1" strike="noStrike" baseline="-25000">
                <a:solidFill>
                  <a:srgbClr val="cccc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cccc00"/>
                </a:solidFill>
                <a:latin typeface="Times New Roman"/>
              </a:rPr>
              <a:t>:Eu2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040" y="98280"/>
            <a:ext cx="772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800" spc="-1" strike="noStrike">
                <a:solidFill>
                  <a:srgbClr val="0000ff"/>
                </a:solidFill>
                <a:latin typeface="Times New Roman"/>
              </a:rPr>
              <a:t>WE NEED </a:t>
            </a:r>
            <a:r>
              <a:rPr b="1" i="1" lang="fr-BE" sz="2800" spc="-1" strike="noStrike">
                <a:solidFill>
                  <a:srgbClr val="0000ff"/>
                </a:solidFill>
                <a:latin typeface="Times New Roman"/>
              </a:rPr>
              <a:t>GUIDING PRINCIPLES (THEORY) </a:t>
            </a:r>
            <a:r>
              <a:rPr b="1" lang="fr-BE" sz="2800" spc="-1" strike="noStrike">
                <a:solidFill>
                  <a:srgbClr val="0000ff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19640" y="62388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+ </a:t>
            </a:r>
            <a:r>
              <a:rPr b="1" lang="fr-BE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dates </a:t>
            </a:r>
            <a:r>
              <a:rPr b="1" lang="fr-BE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from liter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3325680" y="1893960"/>
            <a:ext cx="3821400" cy="430992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 flipV="1">
            <a:off x="6899400" y="2184480"/>
            <a:ext cx="707760" cy="333360"/>
          </a:xfrm>
          <a:prstGeom prst="line">
            <a:avLst/>
          </a:prstGeom>
          <a:ln w="18000">
            <a:solidFill>
              <a:srgbClr val="ff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07160" y="1860480"/>
            <a:ext cx="2052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8080"/>
                </a:solidFill>
                <a:latin typeface="Times New Roman"/>
              </a:rPr>
              <a:t>B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or doping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BE" sz="2200" spc="-1" strike="noStrike">
                <a:solidFill>
                  <a:srgbClr val="ff8080"/>
                </a:solidFill>
                <a:latin typeface="Times New Roman"/>
              </a:rPr>
              <a:t>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4419720" y="4995720"/>
            <a:ext cx="288720" cy="882720"/>
          </a:xfrm>
          <a:prstGeom prst="line">
            <a:avLst/>
          </a:prstGeom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246560" y="587844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227640" y="3166920"/>
            <a:ext cx="1768680" cy="163800"/>
          </a:xfrm>
          <a:prstGeom prst="line">
            <a:avLst/>
          </a:prstGeom>
          <a:ln w="180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961400" y="320040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00080"/>
                </a:solidFill>
                <a:latin typeface="Times New Roman"/>
              </a:rPr>
              <a:t>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69120" y="4834080"/>
            <a:ext cx="1238040" cy="326880"/>
          </a:xfrm>
          <a:prstGeom prst="line">
            <a:avLst/>
          </a:prstGeom>
          <a:ln w="180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607160" y="499572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95360" y="3036960"/>
            <a:ext cx="230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nxynitride lay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fr-BE" sz="20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N tetrahed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01560" y="1893960"/>
            <a:ext cx="26542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a-(O,N) or Eu-(O,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a-(O) or Eu-(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76040" y="2906640"/>
            <a:ext cx="30067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6040" y="3852720"/>
            <a:ext cx="30067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76040" y="4408560"/>
            <a:ext cx="3006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76040" y="5289480"/>
            <a:ext cx="30067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76040" y="5845320"/>
            <a:ext cx="3006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052720" y="1228680"/>
            <a:ext cx="5838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u impurities act as luminescence ce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25680" y="2122560"/>
            <a:ext cx="1273320" cy="65232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3250800" y="2511360"/>
            <a:ext cx="360360" cy="16992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Europium imp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44360" y="225360"/>
            <a:ext cx="234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u impu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5191200" y="2411280"/>
            <a:ext cx="3601800" cy="357516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2232000" y="3176640"/>
            <a:ext cx="4287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78400" y="3268800"/>
            <a:ext cx="42876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" descr=""/>
          <p:cNvPicPr/>
          <p:nvPr/>
        </p:nvPicPr>
        <p:blipFill>
          <a:blip r:embed="rId2"/>
          <a:stretch/>
        </p:blipFill>
        <p:spPr>
          <a:xfrm>
            <a:off x="1627200" y="3022560"/>
            <a:ext cx="3000240" cy="2808360"/>
          </a:xfrm>
          <a:prstGeom prst="rect">
            <a:avLst/>
          </a:prstGeom>
          <a:ln w="0">
            <a:noFill/>
          </a:ln>
        </p:spPr>
      </p:pic>
      <p:sp>
        <p:nvSpPr>
          <p:cNvPr id="1299" name=""/>
          <p:cNvSpPr/>
          <p:nvPr/>
        </p:nvSpPr>
        <p:spPr>
          <a:xfrm>
            <a:off x="2111400" y="1798560"/>
            <a:ext cx="735120" cy="7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8413920" y="1798560"/>
            <a:ext cx="58572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 equivalent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44360" y="225360"/>
            <a:ext cx="2340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Eu impu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60360" y="1440000"/>
            <a:ext cx="52196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ropium substitutes to Barium atoms in two possible non equivalent pos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713320" y="30751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326120" y="3560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146840" y="4643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462480" y="5256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594080" y="4892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698840" y="3959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58080" y="3220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18880" y="36338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815600" y="45734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526520" y="5257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515200" y="4967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91240" y="3960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04000" y="2525760"/>
            <a:ext cx="53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0080" y="5694480"/>
            <a:ext cx="530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916360" y="4140360"/>
            <a:ext cx="4921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ff8080"/>
                </a:solidFill>
                <a:latin typeface="Times New Roman"/>
              </a:rPr>
              <a:t>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80240" y="4002120"/>
            <a:ext cx="492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ff8080"/>
                </a:solidFill>
                <a:latin typeface="Times New Roman"/>
              </a:rPr>
              <a:t>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7147080" y="4898880"/>
            <a:ext cx="26892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AW atomic data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or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246560" y="5514840"/>
            <a:ext cx="30067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and concentration of Eu impur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475320" y="1959120"/>
            <a:ext cx="265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lectronic structure</a:t>
            </a:r>
            <a:br>
              <a:rPr sz="2000"/>
            </a:b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of host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2600280" y="2575080"/>
            <a:ext cx="4076640" cy="1936440"/>
          </a:xfrm>
          <a:prstGeom prst="rect">
            <a:avLst/>
          </a:prstGeom>
          <a:ln w="0">
            <a:noFill/>
          </a:ln>
        </p:spPr>
      </p:pic>
      <p:sp>
        <p:nvSpPr>
          <p:cNvPr id="1342" name=""/>
          <p:cNvSpPr/>
          <p:nvPr/>
        </p:nvSpPr>
        <p:spPr>
          <a:xfrm>
            <a:off x="5635800" y="3759120"/>
            <a:ext cx="279360" cy="601920"/>
          </a:xfrm>
          <a:custGeom>
            <a:avLst/>
            <a:gdLst>
              <a:gd name="textAreaLeft" fmla="*/ 360 w 279360"/>
              <a:gd name="textAreaRight" fmla="*/ 279000 w 279360"/>
              <a:gd name="textAreaTop" fmla="*/ 360 h 601920"/>
              <a:gd name="textAreaBottom" fmla="*/ 601560 h 601920"/>
            </a:gdLst>
            <a:ahLst/>
            <a:rect l="textAreaLeft" t="textAreaTop" r="textAreaRight" b="textAreaBottom"/>
            <a:pathLst>
              <a:path w="21600" h="46508">
                <a:moveTo>
                  <a:pt x="122" y="0"/>
                </a:moveTo>
                <a:arcTo wR="122" hR="122" stAng="16200000" swAng="-5400000"/>
                <a:lnTo>
                  <a:pt x="0" y="46386"/>
                </a:lnTo>
                <a:arcTo wR="122" hR="122" stAng="10800000" swAng="-5400000"/>
                <a:lnTo>
                  <a:pt x="21478" y="46508"/>
                </a:lnTo>
                <a:arcTo wR="122" hR="122" stAng="5400000" swAng="-5400000"/>
                <a:lnTo>
                  <a:pt x="21600" y="122"/>
                </a:lnTo>
                <a:arcTo wR="122" hR="12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10320" y="434340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65560" y="2575080"/>
            <a:ext cx="1974960" cy="368280"/>
          </a:xfrm>
          <a:prstGeom prst="roundRect">
            <a:avLst>
              <a:gd name="adj" fmla="val 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83000" y="4498920"/>
            <a:ext cx="4095720" cy="257400"/>
          </a:xfrm>
          <a:prstGeom prst="roundRect">
            <a:avLst>
              <a:gd name="adj" fmla="val 61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24160" y="4567320"/>
            <a:ext cx="2527560" cy="298440"/>
          </a:xfrm>
          <a:prstGeom prst="roundRect">
            <a:avLst>
              <a:gd name="adj" fmla="val 528"/>
            </a:avLst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468760" y="3519360"/>
            <a:ext cx="650880" cy="120600"/>
          </a:xfrm>
          <a:prstGeom prst="roundRect">
            <a:avLst>
              <a:gd name="adj" fmla="val 13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13600" y="3502080"/>
            <a:ext cx="465120" cy="171360"/>
          </a:xfrm>
          <a:prstGeom prst="roundRect">
            <a:avLst>
              <a:gd name="adj" fmla="val 9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64200" y="3519360"/>
            <a:ext cx="93600" cy="85680"/>
          </a:xfrm>
          <a:prstGeom prst="roundRect">
            <a:avLst>
              <a:gd name="adj" fmla="val 1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645080" y="4584600"/>
            <a:ext cx="172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124160" y="2849400"/>
            <a:ext cx="2527560" cy="709920"/>
          </a:xfrm>
          <a:prstGeom prst="roundRect">
            <a:avLst>
              <a:gd name="adj" fmla="val 222"/>
            </a:avLst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413240" y="2852640"/>
            <a:ext cx="1913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ulk 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2"/>
          <a:stretch/>
        </p:blipFill>
        <p:spPr>
          <a:xfrm>
            <a:off x="7954920" y="1262160"/>
            <a:ext cx="1909800" cy="47772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>
            <a:off x="2583000" y="2612880"/>
            <a:ext cx="1768320" cy="2286000"/>
          </a:xfrm>
          <a:custGeom>
            <a:avLst/>
            <a:gdLst>
              <a:gd name="textAreaLeft" fmla="*/ 360 w 1768320"/>
              <a:gd name="textAreaRight" fmla="*/ 1767960 w 176832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7922">
                <a:moveTo>
                  <a:pt x="19" y="0"/>
                </a:moveTo>
                <a:arcTo wR="19" hR="19" stAng="16200000" swAng="-5400000"/>
                <a:lnTo>
                  <a:pt x="0" y="27903"/>
                </a:lnTo>
                <a:arcTo wR="19" hR="19" stAng="10800000" swAng="-5400000"/>
                <a:lnTo>
                  <a:pt x="21581" y="27922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919080" y="1927080"/>
            <a:ext cx="2795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MT"/>
                <a:ea typeface="ArialMT"/>
              </a:rPr>
              <a:t>Crystalline structure of host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802480" y="2612880"/>
            <a:ext cx="707760" cy="163800"/>
          </a:xfrm>
          <a:prstGeom prst="roundRect">
            <a:avLst>
              <a:gd name="adj" fmla="val 97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76040" y="4114800"/>
            <a:ext cx="4422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 : Eu</a:t>
            </a:r>
            <a:r>
              <a:rPr b="1" i="1" lang="en-US" sz="1800" spc="-1" strike="noStrike" baseline="33000">
                <a:solidFill>
                  <a:srgbClr val="000000"/>
                </a:solidFill>
                <a:latin typeface="Arial"/>
                <a:ea typeface="CMR10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776840" y="2122560"/>
            <a:ext cx="1062000" cy="163440"/>
          </a:xfrm>
          <a:custGeom>
            <a:avLst/>
            <a:gdLst>
              <a:gd name="textAreaLeft" fmla="*/ 132480 w 1062000"/>
              <a:gd name="textAreaRight" fmla="*/ 929520 w 1062000"/>
              <a:gd name="textAreaTop" fmla="*/ 40680 h 163440"/>
              <a:gd name="textAreaBottom" fmla="*/ 122760 h 16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400000">
            <a:off x="7393680" y="3569400"/>
            <a:ext cx="1501920" cy="176400"/>
          </a:xfrm>
          <a:custGeom>
            <a:avLst/>
            <a:gdLst>
              <a:gd name="textAreaLeft" fmla="*/ 138240 w 1501920"/>
              <a:gd name="textAreaRight" fmla="*/ 1363680 w 1501920"/>
              <a:gd name="textAreaTop" fmla="*/ 41400 h 176400"/>
              <a:gd name="textAreaBottom" fmla="*/ 135000 h 176400"/>
            </a:gdLst>
            <a:ahLst/>
            <a:rect l="textAreaLeft" t="textAreaTop" r="textAreaRight" b="textAreaBottom"/>
            <a:pathLst>
              <a:path w="21600" h="21600">
                <a:moveTo>
                  <a:pt x="0" y="5087"/>
                </a:moveTo>
                <a:lnTo>
                  <a:pt x="17839" y="5087"/>
                </a:lnTo>
                <a:lnTo>
                  <a:pt x="17839" y="0"/>
                </a:lnTo>
                <a:lnTo>
                  <a:pt x="21600" y="10800"/>
                </a:lnTo>
                <a:lnTo>
                  <a:pt x="17839" y="21600"/>
                </a:lnTo>
                <a:lnTo>
                  <a:pt x="17839" y="16513"/>
                </a:lnTo>
                <a:lnTo>
                  <a:pt x="0" y="16513"/>
                </a:lnTo>
                <a:lnTo>
                  <a:pt x="1989" y="10800"/>
                </a:lnTo>
                <a:lnTo>
                  <a:pt x="0" y="5087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 rot="20700000">
            <a:off x="6934680" y="5457600"/>
            <a:ext cx="704880" cy="163080"/>
          </a:xfrm>
          <a:custGeom>
            <a:avLst/>
            <a:gdLst>
              <a:gd name="textAreaLeft" fmla="*/ 87840 w 704880"/>
              <a:gd name="textAreaRight" fmla="*/ 617040 w 704880"/>
              <a:gd name="textAreaTop" fmla="*/ 40680 h 163080"/>
              <a:gd name="textAreaBottom" fmla="*/ 122400 h 16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 rot="900000">
            <a:off x="3531600" y="5544720"/>
            <a:ext cx="704880" cy="163800"/>
          </a:xfrm>
          <a:custGeom>
            <a:avLst/>
            <a:gdLst>
              <a:gd name="textAreaLeft" fmla="*/ 87840 w 704880"/>
              <a:gd name="textAreaRight" fmla="*/ 617040 w 704880"/>
              <a:gd name="textAreaTop" fmla="*/ 41040 h 163800"/>
              <a:gd name="textAreaBottom" fmla="*/ 123120 h 163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18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76040" y="3754440"/>
            <a:ext cx="37148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147080" y="3754440"/>
            <a:ext cx="2476440" cy="1440"/>
          </a:xfrm>
          <a:prstGeom prst="line">
            <a:avLst/>
          </a:prstGeom>
          <a:ln w="3600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89440" y="324000"/>
            <a:ext cx="5543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binit :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76040" y="1181160"/>
            <a:ext cx="4776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alculation for the ho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1" i="1" lang="en-US" sz="18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39640" y="4896000"/>
            <a:ext cx="306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ff"/>
                </a:solidFill>
                <a:latin typeface="Arial"/>
              </a:rPr>
              <a:t>Perspectiv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ff"/>
                </a:solidFill>
                <a:latin typeface="Arial"/>
              </a:rPr>
              <a:t>Position of the 4f and 5d states of Europ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7248600" y="-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008000" y="1890720"/>
            <a:ext cx="3167280" cy="86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273640" y="1890720"/>
            <a:ext cx="3214800" cy="1217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694880" y="1486080"/>
            <a:ext cx="184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: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013080" y="1486080"/>
            <a:ext cx="176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: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170240" y="5121360"/>
            <a:ext cx="1131840" cy="1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167360" y="2749680"/>
            <a:ext cx="1064880" cy="314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774800" y="4902120"/>
            <a:ext cx="1584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111720" y="4849920"/>
            <a:ext cx="1584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779480" y="3660840"/>
            <a:ext cx="15843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81840" y="3435480"/>
            <a:ext cx="15843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2462040" y="3649320"/>
            <a:ext cx="1800" cy="1276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6827760" y="3430080"/>
            <a:ext cx="1800" cy="140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757520" y="2895480"/>
            <a:ext cx="1584000" cy="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073920" y="2998800"/>
            <a:ext cx="15843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389400" y="2889360"/>
            <a:ext cx="123840" cy="774720"/>
          </a:xfrm>
          <a:custGeom>
            <a:avLst/>
            <a:gdLst>
              <a:gd name="textAreaLeft" fmla="*/ 0 w 123840"/>
              <a:gd name="textAreaRight" fmla="*/ 44640 w 123840"/>
              <a:gd name="textAreaTop" fmla="*/ 20160 h 774720"/>
              <a:gd name="textAreaBottom" fmla="*/ 754560 h 7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682040" y="2987640"/>
            <a:ext cx="129960" cy="444600"/>
          </a:xfrm>
          <a:custGeom>
            <a:avLst/>
            <a:gdLst>
              <a:gd name="textAreaLeft" fmla="*/ 0 w 129960"/>
              <a:gd name="textAreaRight" fmla="*/ 46800 w 12996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991800" y="1927080"/>
            <a:ext cx="197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onduction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103400" y="467532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74960" y="347184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89200" y="3271680"/>
            <a:ext cx="158436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760400" y="2486160"/>
            <a:ext cx="158292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72120" y="3298680"/>
            <a:ext cx="158436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043680" y="2473200"/>
            <a:ext cx="158436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654200" y="2519280"/>
            <a:ext cx="125280" cy="733680"/>
          </a:xfrm>
          <a:custGeom>
            <a:avLst/>
            <a:gdLst>
              <a:gd name="textAreaLeft" fmla="*/ 79920 w 125280"/>
              <a:gd name="textAreaRight" fmla="*/ 125640 w 125280"/>
              <a:gd name="textAreaTop" fmla="*/ 19080 h 733680"/>
              <a:gd name="textAreaBottom" fmla="*/ 714600 h 73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965920" y="2503440"/>
            <a:ext cx="83880" cy="763560"/>
          </a:xfrm>
          <a:custGeom>
            <a:avLst/>
            <a:gdLst>
              <a:gd name="textAreaLeft" fmla="*/ 53640 w 83880"/>
              <a:gd name="textAreaRight" fmla="*/ 84240 w 83880"/>
              <a:gd name="textAreaTop" fmla="*/ 19800 h 763560"/>
              <a:gd name="textAreaBottom" fmla="*/ 743760 h 76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00000" y="2624040"/>
            <a:ext cx="97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Eu-O</a:t>
            </a:r>
            <a:r>
              <a:rPr b="0" lang="fr-BE" sz="2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186520" y="2482920"/>
            <a:ext cx="952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Eu-O</a:t>
            </a:r>
            <a:r>
              <a:rPr b="0" lang="fr-BE" sz="2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730600" y="3652920"/>
            <a:ext cx="1440" cy="126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089840" y="3438360"/>
            <a:ext cx="1440" cy="1413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459480" y="2832120"/>
            <a:ext cx="1800" cy="58896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230880" y="2521080"/>
            <a:ext cx="355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cc6600"/>
                </a:solidFill>
                <a:latin typeface="Times New Roman"/>
              </a:rPr>
              <a:t>Eu</a:t>
            </a:r>
            <a:r>
              <a:rPr b="1" lang="fr-BE" sz="2000" spc="-1" strike="noStrike" baseline="30000">
                <a:solidFill>
                  <a:srgbClr val="cc6600"/>
                </a:solidFill>
                <a:latin typeface="Times New Roman"/>
              </a:rPr>
              <a:t>2+</a:t>
            </a:r>
            <a:r>
              <a:rPr b="1" lang="fr-BE" sz="2000" spc="-1" strike="noStrike">
                <a:solidFill>
                  <a:srgbClr val="cc6600"/>
                </a:solidFill>
                <a:latin typeface="Wingdings"/>
                <a:ea typeface="Wingdings"/>
              </a:rPr>
              <a:t></a:t>
            </a:r>
            <a:r>
              <a:rPr b="1" lang="fr-BE" sz="2000" spc="-1" strike="noStrike">
                <a:solidFill>
                  <a:srgbClr val="cc6600"/>
                </a:solidFill>
                <a:latin typeface="Times New Roman"/>
              </a:rPr>
              <a:t>Eu</a:t>
            </a:r>
            <a:r>
              <a:rPr b="1" lang="fr-BE" sz="2000" spc="-1" strike="noStrike" baseline="30000">
                <a:solidFill>
                  <a:srgbClr val="cc6600"/>
                </a:solidFill>
                <a:latin typeface="Times New Roman"/>
              </a:rPr>
              <a:t>3+</a:t>
            </a:r>
            <a:r>
              <a:rPr b="1" lang="fr-BE" sz="2000" spc="-1" strike="noStrike">
                <a:solidFill>
                  <a:srgbClr val="cc6600"/>
                </a:solidFill>
                <a:latin typeface="Times New Roman"/>
              </a:rPr>
              <a:t>+ e</a:t>
            </a:r>
            <a:r>
              <a:rPr b="1" lang="fr-BE" sz="2000" spc="-1" strike="noStrike" baseline="30000">
                <a:solidFill>
                  <a:srgbClr val="cc6600"/>
                </a:solidFill>
                <a:latin typeface="Times New Roman"/>
              </a:rPr>
              <a:t>- </a:t>
            </a:r>
            <a:r>
              <a:rPr b="1" lang="fr-BE" sz="2000" spc="-1" strike="noStrike">
                <a:solidFill>
                  <a:srgbClr val="cc6600"/>
                </a:solidFill>
                <a:latin typeface="Times New Roman"/>
              </a:rPr>
              <a:t>(</a:t>
            </a:r>
            <a:r>
              <a:rPr b="1" i="1" lang="fr-BE" sz="2000" spc="-1" strike="noStrike">
                <a:solidFill>
                  <a:srgbClr val="cc6600"/>
                </a:solidFill>
                <a:latin typeface="Times New Roman"/>
              </a:rPr>
              <a:t>auto-ionization</a:t>
            </a:r>
            <a:r>
              <a:rPr b="1" lang="fr-BE" sz="2000" spc="-1" strike="noStrike">
                <a:solidFill>
                  <a:srgbClr val="cc66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79040" y="306864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814520" y="304812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732760" y="4017960"/>
            <a:ext cx="18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Green 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peak </a:t>
            </a:r>
            <a:r>
              <a:rPr b="1" lang="fr-BE" sz="2000" spc="-1" strike="noStrike">
                <a:solidFill>
                  <a:srgbClr val="009900"/>
                </a:solidFill>
                <a:latin typeface="Symbol"/>
                <a:ea typeface="Symbol"/>
              </a:rPr>
              <a:t>∼</a:t>
            </a: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 530n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129800" y="3989520"/>
            <a:ext cx="182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8080"/>
                </a:solidFill>
                <a:latin typeface="Times New Roman"/>
              </a:rPr>
              <a:t>Blue-Green 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8080"/>
                </a:solidFill>
                <a:latin typeface="Times New Roman"/>
              </a:rPr>
              <a:t>peak </a:t>
            </a:r>
            <a:r>
              <a:rPr b="1" lang="fr-BE" sz="2000" spc="-1" strike="noStrike">
                <a:solidFill>
                  <a:srgbClr val="006666"/>
                </a:solidFill>
                <a:latin typeface="Symbol"/>
                <a:ea typeface="Symbol"/>
              </a:rPr>
              <a:t>∼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BE" sz="2000" spc="-1" strike="noStrike">
                <a:solidFill>
                  <a:srgbClr val="008080"/>
                </a:solidFill>
                <a:latin typeface="Times New Roman"/>
              </a:rPr>
              <a:t>480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008000" y="5097600"/>
            <a:ext cx="3152880" cy="718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992880" y="542916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valence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392800" y="465624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560" y="324468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273640" y="5097600"/>
            <a:ext cx="3152880" cy="718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rot="16200000">
            <a:off x="-230040" y="364824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6.772 eV (G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61840" y="2793960"/>
            <a:ext cx="1800" cy="2303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rot="16200000">
            <a:off x="4132440" y="386640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6.443eV (G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192640" y="3114720"/>
            <a:ext cx="1800" cy="2027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47640" y="5940360"/>
            <a:ext cx="85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osed by MM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2009): based on Dorenbos scheme (J.Phys.Cond.Mat.17,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52720" y="287280"/>
            <a:ext cx="5543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fference of EU PL : 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1280" y="109440"/>
            <a:ext cx="251964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00ff"/>
                </a:solidFill>
                <a:latin typeface="Times New Roman"/>
              </a:rPr>
              <a:t>Persp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3487680" y="1571760"/>
            <a:ext cx="6377040" cy="4620960"/>
          </a:xfrm>
          <a:prstGeom prst="rect">
            <a:avLst/>
          </a:prstGeom>
          <a:ln w="0">
            <a:noFill/>
          </a:ln>
        </p:spPr>
      </p:pic>
      <p:sp>
        <p:nvSpPr>
          <p:cNvPr id="1448" name=""/>
          <p:cNvSpPr/>
          <p:nvPr/>
        </p:nvSpPr>
        <p:spPr>
          <a:xfrm>
            <a:off x="7248600" y="-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874800" y="4649760"/>
            <a:ext cx="1584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79480" y="3408480"/>
            <a:ext cx="1584360" cy="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489040" y="2637000"/>
            <a:ext cx="123840" cy="774360"/>
          </a:xfrm>
          <a:custGeom>
            <a:avLst/>
            <a:gdLst>
              <a:gd name="textAreaLeft" fmla="*/ 0 w 123840"/>
              <a:gd name="textAreaRight" fmla="*/ 44640 w 123840"/>
              <a:gd name="textAreaTop" fmla="*/ 20160 h 774360"/>
              <a:gd name="textAreaBottom" fmla="*/ 754200 h 77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3040" y="442260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4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74600" y="321948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 5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578680" y="281628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08000" y="4844880"/>
            <a:ext cx="3152880" cy="71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94320" y="517680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valence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952720" y="287280"/>
            <a:ext cx="5543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wards a validation of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1280" y="109440"/>
            <a:ext cx="251964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1" name="" descr=""/>
          <p:cNvPicPr/>
          <p:nvPr/>
        </p:nvPicPr>
        <p:blipFill>
          <a:blip r:embed="rId3"/>
          <a:stretch/>
        </p:blipFill>
        <p:spPr>
          <a:xfrm>
            <a:off x="4319640" y="1166760"/>
            <a:ext cx="1979640" cy="1963800"/>
          </a:xfrm>
          <a:prstGeom prst="rect">
            <a:avLst/>
          </a:prstGeom>
          <a:ln w="0">
            <a:noFill/>
          </a:ln>
        </p:spPr>
      </p:pic>
      <p:sp>
        <p:nvSpPr>
          <p:cNvPr id="1472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08000" y="1638360"/>
            <a:ext cx="3166920" cy="86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94520" y="1233360"/>
            <a:ext cx="1841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: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57160" y="2643120"/>
            <a:ext cx="1584360" cy="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91440" y="1674720"/>
            <a:ext cx="197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onduction 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888840" y="3019320"/>
            <a:ext cx="158436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860400" y="2233440"/>
            <a:ext cx="158292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54200" y="2266920"/>
            <a:ext cx="125280" cy="733320"/>
          </a:xfrm>
          <a:custGeom>
            <a:avLst/>
            <a:gdLst>
              <a:gd name="textAreaLeft" fmla="*/ 79920 w 125280"/>
              <a:gd name="textAreaRight" fmla="*/ 125640 w 125280"/>
              <a:gd name="textAreaTop" fmla="*/ 19080 h 733320"/>
              <a:gd name="textAreaBottom" fmla="*/ 714240 h 73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0" y="2371680"/>
            <a:ext cx="973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Eu-O</a:t>
            </a:r>
            <a:r>
              <a:rPr b="0" lang="fr-BE" sz="2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24360" y="6264360"/>
            <a:ext cx="6846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om on the bottom of the conduction band - Preliminary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340000" y="3419640"/>
            <a:ext cx="1979640" cy="539640"/>
          </a:xfrm>
          <a:prstGeom prst="line">
            <a:avLst/>
          </a:prstGeom>
          <a:ln w="18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240000" y="2448000"/>
            <a:ext cx="3780000" cy="1332000"/>
          </a:xfrm>
          <a:prstGeom prst="line">
            <a:avLst/>
          </a:prstGeom>
          <a:ln w="18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424560" y="1276200"/>
            <a:ext cx="254016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Partial density of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Eu </a:t>
            </a: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649920" y="1692360"/>
            <a:ext cx="447840" cy="1440"/>
          </a:xfrm>
          <a:prstGeom prst="line">
            <a:avLst/>
          </a:prstGeom>
          <a:ln w="18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49920" y="1944720"/>
            <a:ext cx="447840" cy="1440"/>
          </a:xfrm>
          <a:prstGeom prst="line">
            <a:avLst/>
          </a:prstGeom>
          <a:ln w="180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649920" y="2195640"/>
            <a:ext cx="447840" cy="144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649920" y="2448000"/>
            <a:ext cx="447840" cy="1440"/>
          </a:xfrm>
          <a:prstGeom prst="line">
            <a:avLst/>
          </a:prstGeom>
          <a:ln w="180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268960" y="1800360"/>
            <a:ext cx="4921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600" spc="-1" strike="noStrike">
                <a:solidFill>
                  <a:srgbClr val="ff8080"/>
                </a:solidFill>
                <a:latin typeface="Times New Roman"/>
              </a:rPr>
              <a:t>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934240" y="1725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292720" y="1224000"/>
            <a:ext cx="3952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83ca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00ff"/>
                </a:solidFill>
                <a:latin typeface="Times New Roman"/>
              </a:rPr>
              <a:t>Persp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8820000" y="5961240"/>
            <a:ext cx="107964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Energy (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8421840" y="2003400"/>
            <a:ext cx="1363680" cy="77472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7512120" y="3265560"/>
            <a:ext cx="2359080" cy="58896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248600" y="-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3080" y="109440"/>
            <a:ext cx="2519280" cy="100188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44360" y="406440"/>
            <a:ext cx="234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060720" y="360360"/>
            <a:ext cx="6659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ffffff"/>
                </a:solidFill>
                <a:latin typeface="Times New Roman"/>
              </a:rPr>
              <a:t>New crystal structure for oxynit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12760" y="1338120"/>
            <a:ext cx="96948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cientific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uminescence properties of rare-earth doping oxynitrides phosp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mission and absorption spec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rmal quen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Numerical Challe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ectronic structure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Ba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Si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O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MR10"/>
              </a:rPr>
              <a:t>N</a:t>
            </a:r>
            <a:r>
              <a:rPr b="0" lang="en-US" sz="2000" spc="-1" strike="noStrike" baseline="-33000">
                <a:solidFill>
                  <a:srgbClr val="000000"/>
                </a:solidFill>
                <a:latin typeface="Arial"/>
                <a:ea typeface="CMR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hosp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urrent : G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with PAW atomic data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includ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semi-core and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uture : Electron-phonon intera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Indus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Reducing the cost of R&amp;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scovery of new comp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diction of properties before 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" descr=""/>
          <p:cNvPicPr/>
          <p:nvPr/>
        </p:nvPicPr>
        <p:blipFill>
          <a:blip r:embed="rId6"/>
          <a:stretch/>
        </p:blipFill>
        <p:spPr>
          <a:xfrm>
            <a:off x="7199280" y="5400720"/>
            <a:ext cx="2452680" cy="6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/>
          <p:nvPr/>
        </p:nvSpPr>
        <p:spPr>
          <a:xfrm>
            <a:off x="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knowledg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2560" y="1220760"/>
            <a:ext cx="9993240" cy="47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MCRC)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r development/analysis of our phosphor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ncouragement from theoretical G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yota Uheda,   Satoshi Shimooka,   Yasuo Shimomura,  Tomoyuki Kurushim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atoshi Seto,   Hiromu Watanabe,  Toshio Akai,   Masaki Takashima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utaka Sasaki,   Motoyuki Shigeiwa,   Kaoru Okamoto,    Hiroyuki Imur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atsuya Kanda,   Shinichiro Nakamu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ETSF/Universite Catholique de Louvain)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r PAW-GW calc. &amp;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uild system of AB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teo Giantomassi,  Alain Jacques,  Gian-Marco Rignanese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ann Poui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, MS, XG: financial support from the European Union, 7th Framework Programme (Grant Agreement 211956 ETSF I3 e-Infrastructure project), the Agentschap voor Innovatie door Wetenschap en Technologie (IWT project N°080023 ISIMADE), as well as the Walloon region Belgium (RW project N°816849, WALL-ETS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264600" y="1548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3200" spc="-1" strike="noStrike">
                <a:solidFill>
                  <a:srgbClr val="000000"/>
                </a:solidFill>
                <a:latin typeface="Times New Roman"/>
              </a:rPr>
              <a:t>A photo from Sendai (Tohoku Univers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9" name="" descr=""/>
          <p:cNvPicPr/>
          <p:nvPr/>
        </p:nvPicPr>
        <p:blipFill>
          <a:blip r:embed="rId1"/>
          <a:stretch/>
        </p:blipFill>
        <p:spPr>
          <a:xfrm>
            <a:off x="3108240" y="1144440"/>
            <a:ext cx="3141720" cy="4197600"/>
          </a:xfrm>
          <a:prstGeom prst="rect">
            <a:avLst/>
          </a:prstGeom>
          <a:ln w="0">
            <a:noFill/>
          </a:ln>
        </p:spPr>
      </p:pic>
      <p:sp>
        <p:nvSpPr>
          <p:cNvPr id="1520" name=""/>
          <p:cNvSpPr/>
          <p:nvPr/>
        </p:nvSpPr>
        <p:spPr>
          <a:xfrm>
            <a:off x="514800" y="5319720"/>
            <a:ext cx="90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Prof. Kotaro Honda in Director office is keeping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even after breakdown of the table by Tohoku-Pacif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BE" sz="3200" spc="-1" strike="noStrike">
                <a:solidFill>
                  <a:srgbClr val="000000"/>
                </a:solidFill>
                <a:latin typeface="Times New Roman"/>
              </a:rPr>
              <a:t>Ocean Earthquake on March 11 2011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552760"/>
            <a:ext cx="9906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03360" y="5551560"/>
            <a:ext cx="64800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19200" y="206856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8880" y="515448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f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ound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600" y="168120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f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d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2680" y="3087720"/>
            <a:ext cx="1598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17760" y="2048040"/>
            <a:ext cx="381780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17880" y="2076480"/>
            <a:ext cx="563400" cy="9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43400" y="3083040"/>
            <a:ext cx="749520" cy="82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10200" y="3898800"/>
            <a:ext cx="16002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05520" y="360216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8120" y="2852640"/>
            <a:ext cx="16002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3440" y="261144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08760" y="235584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267160" y="2344680"/>
            <a:ext cx="746280" cy="71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5717880" y="4496760"/>
            <a:ext cx="16196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ab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Eu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836280" y="3467160"/>
            <a:ext cx="1473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Fre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Eu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49560" y="3897360"/>
            <a:ext cx="38163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308320" y="2073240"/>
            <a:ext cx="25200" cy="1811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1537560" y="283860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2+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812960" y="2098440"/>
            <a:ext cx="1440" cy="3405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829560" y="3912840"/>
            <a:ext cx="1440" cy="166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716960" y="2286000"/>
            <a:ext cx="1440" cy="1625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7488000" y="2843640"/>
            <a:ext cx="9075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ε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c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657600" y="2084040"/>
            <a:ext cx="1440" cy="97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2869560" y="2358720"/>
            <a:ext cx="1058400" cy="4532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2+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15600" y="11444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olated Eu</a:t>
            </a:r>
            <a:r>
              <a:rPr b="0" lang="fr-BE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82640" y="11318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olid “</a:t>
            </a:r>
            <a:r>
              <a:rPr b="0" i="1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99280" y="2494080"/>
            <a:ext cx="173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rystal </a:t>
            </a: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F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iel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plit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40920" y="138276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Times New Roman"/>
              </a:rPr>
              <a:t>(Likewise with Ce3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50360" y="633744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otations based on Dorenb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05360" y="5713560"/>
            <a:ext cx="46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u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2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/Ce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3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in “more covalent hos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xhibits longer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λ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? ... Not alw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08240" y="3151080"/>
            <a:ext cx="2756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entroid Sh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Nephelauxetic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Covalency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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Dielectric const., </a:t>
            </a:r>
            <a:r>
              <a:rPr b="1" i="1" lang="fr-BE" sz="2200" spc="-1" strike="noStrike">
                <a:solidFill>
                  <a:srgbClr val="009900"/>
                </a:solidFill>
                <a:latin typeface="Symbol"/>
                <a:ea typeface="Symbol"/>
              </a:rPr>
              <a:t>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(Refractive index,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40960" y="1487520"/>
            <a:ext cx="164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spectroscop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polariz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22080" y="1511280"/>
            <a:ext cx="290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at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polarizability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(Dorenb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713040" y="2430360"/>
            <a:ext cx="1325520" cy="3114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6912000" y="1800360"/>
            <a:ext cx="179280" cy="1792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265720" y="2268360"/>
            <a:ext cx="601560" cy="7128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7667640" y="3959280"/>
            <a:ext cx="2160720" cy="1079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9440" y="287280"/>
            <a:ext cx="554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rom oxides to (oxy)nitrides (or sulf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786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polarizable (More “MO”), long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8440" y="2577960"/>
            <a:ext cx="3211560" cy="2684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25280" y="2125800"/>
            <a:ext cx="9496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043920" y="168768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io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680" y="1682640"/>
            <a:ext cx="11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coval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410160" y="2712960"/>
            <a:ext cx="3391200" cy="2502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85680" y="2103480"/>
            <a:ext cx="1505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9900"/>
                </a:solidFill>
                <a:latin typeface="Times New Roman"/>
              </a:rPr>
              <a:t>Sr</a:t>
            </a:r>
            <a:r>
              <a:rPr b="1" lang="fr-BE" sz="22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fr-BE" sz="2200" spc="-1" strike="noStrike">
                <a:solidFill>
                  <a:srgbClr val="009900"/>
                </a:solidFill>
                <a:latin typeface="Times New Roman"/>
              </a:rPr>
              <a:t>SiO</a:t>
            </a:r>
            <a:r>
              <a:rPr b="1" lang="fr-BE" sz="2200" spc="-1" strike="noStrike" baseline="-25000">
                <a:solidFill>
                  <a:srgbClr val="009900"/>
                </a:solidFill>
                <a:latin typeface="Times New Roman"/>
              </a:rPr>
              <a:t>4</a:t>
            </a:r>
            <a:r>
              <a:rPr b="1" lang="fr-BE" sz="2200" spc="-1" strike="noStrike">
                <a:solidFill>
                  <a:srgbClr val="009900"/>
                </a:solidFill>
                <a:latin typeface="Times New Roman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98960" y="2104920"/>
            <a:ext cx="1505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Sr</a:t>
            </a:r>
            <a:r>
              <a:rPr b="1" lang="fr-BE" sz="2200" spc="-1" strike="noStrike" baseline="-25000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SiO</a:t>
            </a:r>
            <a:r>
              <a:rPr b="1" lang="fr-BE" sz="22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fr-BE" sz="2200" spc="-1" strike="noStrike">
                <a:solidFill>
                  <a:srgbClr val="ff6600"/>
                </a:solidFill>
                <a:latin typeface="Times New Roman"/>
              </a:rPr>
              <a:t>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920" y="2104920"/>
            <a:ext cx="11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rO:E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3400" y="6043680"/>
            <a:ext cx="8468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009900"/>
                </a:solidFill>
                <a:latin typeface="Times New Roman"/>
                <a:ea typeface="Arial Unicode MS"/>
              </a:rPr>
              <a:t>dielectric const.(</a:t>
            </a:r>
            <a:r>
              <a:rPr b="1" i="1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ε</a:t>
            </a:r>
            <a:r>
              <a:rPr b="1" i="1" lang="en-US" sz="2200" spc="-1" strike="noStrike" baseline="-25000">
                <a:solidFill>
                  <a:srgbClr val="009900"/>
                </a:solidFill>
                <a:latin typeface="Times New Roman"/>
                <a:ea typeface="Arial Unicode MS"/>
              </a:rPr>
              <a:t>xx</a:t>
            </a:r>
            <a:r>
              <a:rPr b="1" i="1" lang="en-US" sz="2200" spc="-1" strike="noStrike">
                <a:solidFill>
                  <a:srgbClr val="009900"/>
                </a:solidFill>
                <a:latin typeface="Times New Roman"/>
                <a:ea typeface="Arial Unicode MS"/>
              </a:rPr>
              <a:t> </a:t>
            </a:r>
            <a:r>
              <a:rPr b="1" i="1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ε</a:t>
            </a:r>
            <a:r>
              <a:rPr b="1" i="1" lang="en-US" sz="2200" spc="-1" strike="noStrike" baseline="-25000">
                <a:solidFill>
                  <a:srgbClr val="009900"/>
                </a:solidFill>
                <a:latin typeface="Times New Roman"/>
                <a:ea typeface="Arial Unicode MS"/>
              </a:rPr>
              <a:t>yy</a:t>
            </a:r>
            <a:r>
              <a:rPr b="1" i="1" lang="en-US" sz="2200" spc="-1" strike="noStrike">
                <a:solidFill>
                  <a:srgbClr val="009900"/>
                </a:solidFill>
                <a:latin typeface="Times New Roman"/>
                <a:ea typeface="Arial Unicode MS"/>
              </a:rPr>
              <a:t> </a:t>
            </a:r>
            <a:r>
              <a:rPr b="1" i="1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ε</a:t>
            </a:r>
            <a:r>
              <a:rPr b="1" i="1" lang="en-US" sz="2200" spc="-1" strike="noStrike" baseline="-25000">
                <a:solidFill>
                  <a:srgbClr val="009900"/>
                </a:solidFill>
                <a:latin typeface="Times New Roman"/>
                <a:ea typeface="Arial Unicode MS"/>
              </a:rPr>
              <a:t>zz </a:t>
            </a:r>
            <a:r>
              <a:rPr b="1" i="1" lang="en-US" sz="2200" spc="-1" strike="noStrike">
                <a:solidFill>
                  <a:srgbClr val="009900"/>
                </a:solidFill>
                <a:latin typeface="Times New Roman"/>
                <a:ea typeface="Arial Unicode MS"/>
              </a:rPr>
              <a:t>) by ABINIT </a:t>
            </a:r>
            <a:r>
              <a:rPr b="1" i="1" lang="en-US" sz="1800" spc="-1" strike="noStrike">
                <a:solidFill>
                  <a:srgbClr val="009900"/>
                </a:solidFill>
                <a:latin typeface="Times New Roman"/>
                <a:ea typeface="Arial Unicode MS"/>
              </a:rPr>
              <a:t>(Density functional Perturbation The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6680" y="6086520"/>
            <a:ext cx="9496440" cy="14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1360" y="52102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Sr</a:t>
            </a:r>
            <a:r>
              <a:rPr b="1" lang="fr-BE" sz="2000" spc="-1" strike="noStrike" baseline="-25000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SiO</a:t>
            </a:r>
            <a:r>
              <a:rPr b="1" lang="fr-BE" sz="2000" spc="-1" strike="noStrike" baseline="-25000">
                <a:solidFill>
                  <a:srgbClr val="009900"/>
                </a:solidFill>
                <a:latin typeface="Times New Roman"/>
              </a:rPr>
              <a:t>4</a:t>
            </a:r>
            <a:r>
              <a:rPr b="1" lang="fr-BE" sz="2000" spc="-1" strike="noStrike">
                <a:solidFill>
                  <a:srgbClr val="009900"/>
                </a:solidFill>
                <a:latin typeface="Times New Roman"/>
              </a:rPr>
              <a:t>: 3.16, 3.28, 3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17920" y="5211720"/>
            <a:ext cx="299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ff6600"/>
                </a:solidFill>
                <a:latin typeface="Times New Roman"/>
              </a:rPr>
              <a:t>Sr</a:t>
            </a:r>
            <a:r>
              <a:rPr b="1" lang="fr-BE" sz="2000" spc="-1" strike="noStrike" baseline="-25000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ff6600"/>
                </a:solidFill>
                <a:latin typeface="Times New Roman"/>
              </a:rPr>
              <a:t>SiO</a:t>
            </a:r>
            <a:r>
              <a:rPr b="1" lang="fr-BE" sz="20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fr-BE" sz="2000" spc="-1" strike="noStrike">
                <a:solidFill>
                  <a:srgbClr val="ff6600"/>
                </a:solidFill>
                <a:latin typeface="Times New Roman"/>
              </a:rPr>
              <a:t>: 3.33, 3.33, 3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5211720"/>
            <a:ext cx="28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rO: 3.76, 3.76, 3.7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3286080" y="2573280"/>
            <a:ext cx="3186000" cy="26989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036680" y="1603440"/>
            <a:ext cx="1739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3SrO+SiO</a:t>
            </a:r>
            <a:r>
              <a:rPr b="1" i="1" lang="fr-BE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622520" y="2730600"/>
            <a:ext cx="1440" cy="180648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795920" y="2685960"/>
            <a:ext cx="1440" cy="189864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8190000" y="2685600"/>
            <a:ext cx="1440" cy="1414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40720" y="1603440"/>
            <a:ext cx="92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Sr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82040" y="1566720"/>
            <a:ext cx="1739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2SrO+SiO</a:t>
            </a:r>
            <a:r>
              <a:rPr b="1" i="1" lang="fr-BE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fr-BE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43760" y="5567400"/>
            <a:ext cx="226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amashita, J.Lumin (199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2640" y="55674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iXian, Chin. Sci. Bull.(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54080" y="5567400"/>
            <a:ext cx="231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Times New Roman"/>
              </a:rPr>
              <a:t>Park, Appl.Phys.Lett.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06400" y="1222200"/>
            <a:ext cx="36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</a:rPr>
              <a:t>from MM &amp; Kijima, Opt. Mater.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89440" y="287280"/>
            <a:ext cx="554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ore polarizabl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More “MO”)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, long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750360" y="619272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otations based on Dorenb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50000" y="50403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3333cc"/>
                </a:solidFill>
                <a:latin typeface="Times New Roman"/>
              </a:rPr>
              <a:t>Coordinate bond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3333cc"/>
                </a:solidFill>
                <a:latin typeface="Times New Roman"/>
              </a:rPr>
              <a:t>to be examined 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-503280" y="2913120"/>
            <a:ext cx="99061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00080" y="5911920"/>
            <a:ext cx="6480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15920" y="242892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35960" y="551484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f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round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06880" y="20415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f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d</a:t>
            </a:r>
            <a:r>
              <a:rPr b="0" lang="fr-B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19400" y="3448080"/>
            <a:ext cx="15987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14480" y="2408400"/>
            <a:ext cx="381780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4600" y="2436840"/>
            <a:ext cx="563400" cy="9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40120" y="3443400"/>
            <a:ext cx="749520" cy="82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06920" y="4259160"/>
            <a:ext cx="16002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2240" y="396252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14840" y="3213000"/>
            <a:ext cx="16002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10160" y="297180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05480" y="2716200"/>
            <a:ext cx="16002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764240" y="2705040"/>
            <a:ext cx="745920" cy="71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5214600" y="4857120"/>
            <a:ext cx="16196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ab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Eu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333360" y="3827520"/>
            <a:ext cx="14734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Fre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Eu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46280" y="4257720"/>
            <a:ext cx="38163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1805040" y="2433600"/>
            <a:ext cx="25200" cy="1811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1034280" y="319896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2+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309680" y="2458800"/>
            <a:ext cx="1440" cy="3405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326280" y="4273200"/>
            <a:ext cx="1440" cy="166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213680" y="2646360"/>
            <a:ext cx="1440" cy="1625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6985440" y="3204000"/>
            <a:ext cx="9075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ε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c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154320" y="2444400"/>
            <a:ext cx="1800" cy="97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2366280" y="2719080"/>
            <a:ext cx="1058400" cy="4532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pt-BR" sz="2000" spc="-1" strike="noStrike" baseline="-30000">
                <a:solidFill>
                  <a:srgbClr val="000000"/>
                </a:solidFill>
                <a:latin typeface="Arial"/>
                <a:ea typeface="ＭＳ 明朝"/>
              </a:rPr>
              <a:t>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2+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77920" y="14922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solid “</a:t>
            </a:r>
            <a:r>
              <a:rPr b="0" i="1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96360" y="2854440"/>
            <a:ext cx="173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rystal </a:t>
            </a: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F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iel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plit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03520" y="3511440"/>
            <a:ext cx="2756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entroid Sh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Nephelauxetic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fr-BE" sz="2200" spc="-1" strike="noStrike">
                <a:solidFill>
                  <a:srgbClr val="ff0000"/>
                </a:solidFill>
                <a:latin typeface="Times New Roman"/>
              </a:rPr>
              <a:t>Covalency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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Dielectric const., </a:t>
            </a:r>
            <a:r>
              <a:rPr b="1" i="1" lang="fr-BE" sz="2200" spc="-1" strike="noStrike">
                <a:solidFill>
                  <a:srgbClr val="009900"/>
                </a:solidFill>
                <a:latin typeface="Symbol"/>
                <a:ea typeface="Symbol"/>
              </a:rPr>
              <a:t>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fr-BE" sz="2200" spc="-1" strike="noStrike">
                <a:solidFill>
                  <a:srgbClr val="009900"/>
                </a:solidFill>
                <a:latin typeface="Times New Roman"/>
              </a:rPr>
              <a:t>(Refractive index, 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37680" y="1847880"/>
            <a:ext cx="164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spectroscop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000" spc="-1" strike="noStrike">
                <a:solidFill>
                  <a:srgbClr val="009900"/>
                </a:solidFill>
                <a:latin typeface="Times New Roman"/>
              </a:rPr>
              <a:t>polariz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209760" y="2790720"/>
            <a:ext cx="1325880" cy="311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408720" y="2160720"/>
            <a:ext cx="179280" cy="1792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4762440" y="2629080"/>
            <a:ext cx="601560" cy="712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7596360" y="3887640"/>
            <a:ext cx="2160360" cy="10796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795920" y="2952720"/>
            <a:ext cx="531720" cy="530280"/>
          </a:xfrm>
          <a:prstGeom prst="ellipse">
            <a:avLst/>
          </a:prstGeom>
          <a:noFill/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191440" y="4211640"/>
            <a:ext cx="1528920" cy="658800"/>
          </a:xfrm>
          <a:prstGeom prst="flowChartAlternateProcess">
            <a:avLst/>
          </a:prstGeom>
          <a:noFill/>
          <a:ln w="316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12320" y="15048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olated Eu</a:t>
            </a:r>
            <a:r>
              <a:rPr b="0" lang="fr-BE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89440" y="287280"/>
            <a:ext cx="5543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rom oxides to (oxy)nitrides (or sulf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65160" y="1216080"/>
            <a:ext cx="3462120" cy="35989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829040" y="4626000"/>
            <a:ext cx="5077080" cy="17254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4413240" y="1179360"/>
            <a:ext cx="4946760" cy="34401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7267680" y="1449360"/>
            <a:ext cx="2566800" cy="8557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406440" y="5364000"/>
            <a:ext cx="3363840" cy="3146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406440" y="4869000"/>
            <a:ext cx="241776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912400" y="479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18240" y="2933640"/>
            <a:ext cx="19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WHM </a:t>
            </a:r>
            <a:r>
              <a:rPr b="1" lang="fr-BE" sz="1800" spc="-1" strike="noStrike">
                <a:solidFill>
                  <a:srgbClr val="000000"/>
                </a:solidFill>
                <a:latin typeface="Symbol"/>
                <a:ea typeface="Symbol"/>
              </a:rPr>
              <a:t>∼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79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5120" y="5748480"/>
            <a:ext cx="50364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200" spc="-1" strike="noStrike">
                <a:solidFill>
                  <a:srgbClr val="3333ff"/>
                </a:solidFill>
                <a:latin typeface="Times New Roman"/>
              </a:rPr>
              <a:t>c.f.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AlN:Eu, Si </a:t>
            </a:r>
            <a:r>
              <a:rPr b="0" lang="en-US" sz="22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Eu site (CN = 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by Takeda </a:t>
            </a:r>
            <a:r>
              <a:rPr b="0" i="1" lang="en-US" sz="1600" spc="-1" strike="noStrike">
                <a:solidFill>
                  <a:srgbClr val="3333ff"/>
                </a:solidFill>
                <a:latin typeface="Times New Roman"/>
              </a:rPr>
              <a:t>et al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.@NIMS, J. Mater. Chem. (2010) 20, 994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42520" y="336060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999"/>
                </a:solidFill>
                <a:latin typeface="Times New Roman"/>
              </a:rPr>
              <a:t>Blue-gre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48120" y="6083280"/>
            <a:ext cx="1199880" cy="392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32040" y="4883040"/>
            <a:ext cx="1103400" cy="363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89440" y="287280"/>
            <a:ext cx="5543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</a:t>
            </a:r>
            <a:r>
              <a:rPr b="1" i="1" lang="en-US" sz="1600" spc="-1" strike="noStrike" baseline="-29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1600" spc="-1" strike="noStrike" baseline="-29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Eu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.A. Höppe’s Thesis -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14720" y="1149480"/>
            <a:ext cx="26096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. Y.-Q. Li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t al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597560" y="1055520"/>
            <a:ext cx="50004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en luminesc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ited by 400-460nm LED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927760" y="3878280"/>
            <a:ext cx="27795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884840" y="3789360"/>
            <a:ext cx="4763880" cy="28018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7440480" y="4149720"/>
            <a:ext cx="20466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Ba</a:t>
            </a:r>
            <a:r>
              <a:rPr b="1" lang="fr-BE" sz="1600" spc="-1" strike="noStrike" baseline="-25000">
                <a:solidFill>
                  <a:srgbClr val="008000"/>
                </a:solidFill>
                <a:latin typeface="Arial"/>
                <a:ea typeface="ＭＳ Ｐゴシック"/>
              </a:rPr>
              <a:t>3</a:t>
            </a:r>
            <a:r>
              <a:rPr b="1" lang="fr-BE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i</a:t>
            </a:r>
            <a:r>
              <a:rPr b="1" lang="fr-BE" sz="1600" spc="-1" strike="noStrike" baseline="-25000">
                <a:solidFill>
                  <a:srgbClr val="008000"/>
                </a:solidFill>
                <a:latin typeface="Arial"/>
                <a:ea typeface="ＭＳ Ｐゴシック"/>
              </a:rPr>
              <a:t>6</a:t>
            </a:r>
            <a:r>
              <a:rPr b="1" lang="fr-BE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O</a:t>
            </a:r>
            <a:r>
              <a:rPr b="1" lang="fr-BE" sz="1600" spc="-1" strike="noStrike" baseline="-25000">
                <a:solidFill>
                  <a:srgbClr val="008000"/>
                </a:solidFill>
                <a:latin typeface="Arial"/>
                <a:ea typeface="ＭＳ Ｐゴシック"/>
              </a:rPr>
              <a:t>12</a:t>
            </a:r>
            <a:r>
              <a:rPr b="1" lang="fr-BE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N</a:t>
            </a:r>
            <a:r>
              <a:rPr b="1" lang="fr-BE" sz="1600" spc="-1" strike="noStrike" baseline="-25000">
                <a:solidFill>
                  <a:srgbClr val="008000"/>
                </a:solidFill>
                <a:latin typeface="Arial"/>
                <a:ea typeface="ＭＳ Ｐゴシック"/>
              </a:rPr>
              <a:t>2</a:t>
            </a:r>
            <a:r>
              <a:rPr b="1" lang="fr-BE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:Eu</a:t>
            </a:r>
            <a:r>
              <a:rPr b="1" lang="fr-BE" sz="1600" spc="-1" strike="noStrike" baseline="30000">
                <a:solidFill>
                  <a:srgbClr val="008000"/>
                </a:solidFill>
                <a:latin typeface="Arial"/>
                <a:ea typeface="ＭＳ Ｐゴシック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537160" y="3608280"/>
            <a:ext cx="404640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thermal quench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5218200" y="1538280"/>
            <a:ext cx="3673440" cy="20304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532480" y="4870440"/>
            <a:ext cx="2394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(Ba,Sr)</a:t>
            </a:r>
            <a:r>
              <a:rPr b="1" lang="fr-BE" sz="1600" spc="-1" strike="noStrike" baseline="-25000">
                <a:solidFill>
                  <a:srgbClr val="3333cc"/>
                </a:solidFill>
                <a:latin typeface="Arial"/>
                <a:ea typeface="ＭＳ Ｐゴシック"/>
              </a:rPr>
              <a:t>2</a:t>
            </a:r>
            <a:r>
              <a:rPr b="1" lang="fr-BE" sz="1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SiO</a:t>
            </a:r>
            <a:r>
              <a:rPr b="1" lang="fr-BE" sz="1600" spc="-1" strike="noStrike" baseline="-25000">
                <a:solidFill>
                  <a:srgbClr val="3333cc"/>
                </a:solidFill>
                <a:latin typeface="Arial"/>
                <a:ea typeface="ＭＳ Ｐゴシック"/>
              </a:rPr>
              <a:t>4</a:t>
            </a:r>
            <a:r>
              <a:rPr b="1" lang="fr-BE" sz="16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:Eu</a:t>
            </a:r>
            <a:r>
              <a:rPr b="1" lang="fr-BE" sz="1600" spc="-1" strike="noStrike" baseline="30000">
                <a:solidFill>
                  <a:srgbClr val="3333cc"/>
                </a:solidFill>
                <a:latin typeface="Arial"/>
                <a:ea typeface="ＭＳ Ｐゴシック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369360" y="5226120"/>
            <a:ext cx="53676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3643560" y="4838040"/>
            <a:ext cx="2828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mission intensity(20℃=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-351000" y="3776760"/>
            <a:ext cx="5031000" cy="28875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840360" y="6202440"/>
            <a:ext cx="142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28200" y="620712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mpe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1366920" y="1279440"/>
            <a:ext cx="1873080" cy="2260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913120" y="3065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823760" y="2909880"/>
            <a:ext cx="268200" cy="5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66000" y="3343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3399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744640" y="1922040"/>
            <a:ext cx="358920" cy="12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67200" y="1671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17520" y="1177920"/>
            <a:ext cx="277992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rystal 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28720" y="3959280"/>
            <a:ext cx="1079640" cy="179280"/>
          </a:xfrm>
          <a:prstGeom prst="roundRect">
            <a:avLst>
              <a:gd name="adj" fmla="val 8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5240" y="3692520"/>
            <a:ext cx="277956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ellent color reprodu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7800" y="0"/>
            <a:ext cx="786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oxides to (oxy)nitrides (or sulfide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89440" y="324000"/>
            <a:ext cx="554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green phosphor Ba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-33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Eu</a:t>
            </a:r>
            <a:r>
              <a:rPr b="1" i="1" lang="en-US" sz="2400" spc="-1" strike="noStrike" baseline="33000">
                <a:solidFill>
                  <a:srgbClr val="ffffff"/>
                </a:solidFill>
                <a:latin typeface="Times New Roman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7640" y="396720"/>
            <a:ext cx="161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6360" y="36360"/>
            <a:ext cx="8280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080" y="108000"/>
            <a:ext cx="2519280" cy="1001520"/>
          </a:xfrm>
          <a:prstGeom prst="cloudCallout">
            <a:avLst>
              <a:gd name="adj1" fmla="val -8837"/>
              <a:gd name="adj2" fmla="val 10721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464760"/>
            <a:ext cx="989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Schnick, Hintzen)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(Schnick)       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Mitsubishi Chemical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(“Sanbornite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7396920" y="3321000"/>
            <a:ext cx="227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 (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520" y="1403280"/>
            <a:ext cx="269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(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20840" y="1758960"/>
            <a:ext cx="13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fr-B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fr-BE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07400" y="2724120"/>
            <a:ext cx="176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ff0000"/>
                </a:solidFill>
                <a:latin typeface="Times New Roman"/>
              </a:rPr>
              <a:t>Ba</a:t>
            </a:r>
            <a:r>
              <a:rPr b="1" lang="fr-BE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fr-BE" sz="2400" spc="-1" strike="noStrike">
                <a:solidFill>
                  <a:srgbClr val="ff0000"/>
                </a:solidFill>
                <a:latin typeface="Times New Roman"/>
              </a:rPr>
              <a:t>Si</a:t>
            </a:r>
            <a:r>
              <a:rPr b="1" lang="fr-BE" sz="24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fr-BE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fr-BE" sz="2400" spc="-1" strike="noStrike" baseline="-25000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fr-B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fr-BE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fr-B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0000" y="3944880"/>
            <a:ext cx="2385720" cy="4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12 anions/(Ba</a:t>
            </a:r>
            <a:r>
              <a:rPr b="0" lang="fr-BE" sz="2200" spc="-1" strike="noStrike" baseline="-33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+Si</a:t>
            </a:r>
            <a:r>
              <a:rPr b="0" lang="fr-BE" sz="2200" spc="-1" strike="noStrike" baseline="-33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05720" y="4264200"/>
            <a:ext cx="12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13 an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41040" y="5343480"/>
            <a:ext cx="12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ff0000"/>
                </a:solidFill>
                <a:latin typeface="Times New Roman"/>
              </a:rPr>
              <a:t>14 an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895160" y="5937120"/>
            <a:ext cx="12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Times New Roman"/>
              </a:rPr>
              <a:t>15 an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73040" y="1819440"/>
            <a:ext cx="1936800" cy="22399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2941560" y="2117880"/>
            <a:ext cx="1816200" cy="22381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5180040" y="3211560"/>
            <a:ext cx="1835280" cy="22431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7607160" y="3755880"/>
            <a:ext cx="1818000" cy="22194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 flipH="1" flipV="1">
            <a:off x="3584520" y="1550520"/>
            <a:ext cx="5324400" cy="15382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1560" y="4992840"/>
            <a:ext cx="25077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N-rich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⇒ </a:t>
            </a: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more polariz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⇒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longer </a:t>
            </a:r>
            <a:r>
              <a:rPr b="1" i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λ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em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8200" y="427824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fr-BE" sz="2400" spc="-1" strike="noStrike">
                <a:solidFill>
                  <a:srgbClr val="008000"/>
                </a:solidFill>
                <a:latin typeface="Times New Roman"/>
              </a:rPr>
              <a:t>=1.90-1.9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3240" y="473076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fr-BE" sz="2400" spc="-1" strike="noStrike">
                <a:solidFill>
                  <a:srgbClr val="008000"/>
                </a:solidFill>
                <a:latin typeface="Times New Roman"/>
              </a:rPr>
              <a:t>=1.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89640" y="5727600"/>
            <a:ext cx="13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fr-BE" sz="2400" spc="-1" strike="noStrike">
                <a:solidFill>
                  <a:srgbClr val="008000"/>
                </a:solidFill>
                <a:latin typeface="Times New Roman"/>
              </a:rPr>
              <a:t>=1.7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945560" y="623556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4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fr-BE" sz="2400" spc="-1" strike="noStrike">
                <a:solidFill>
                  <a:srgbClr val="008000"/>
                </a:solidFill>
                <a:latin typeface="Times New Roman"/>
              </a:rPr>
              <a:t>=1.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54560" y="1568520"/>
            <a:ext cx="35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N-ri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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larger refractive index </a:t>
            </a:r>
            <a:r>
              <a:rPr b="1" i="1" lang="fr-BE" sz="2200" spc="-1" strike="noStrike">
                <a:solidFill>
                  <a:srgbClr val="008000"/>
                </a:solidFill>
                <a:latin typeface="Times New Roman"/>
              </a:rPr>
              <a:t>n </a:t>
            </a: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               </a:t>
            </a: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fr-BE" sz="2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fr-BE" sz="2200" spc="-1" strike="noStrike">
                <a:solidFill>
                  <a:srgbClr val="008000"/>
                </a:solidFill>
                <a:latin typeface="Times New Roman"/>
              </a:rPr>
              <a:t> calcul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36720" y="36360"/>
            <a:ext cx="1800" cy="107964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60720" y="324000"/>
            <a:ext cx="554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issing 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4360" y="6551640"/>
            <a:ext cx="471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M.Mikami &amp; B.Bertrand – ABINIT 2011 Workshop, Han-sur-Lesse -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6588000"/>
            <a:ext cx="4392720" cy="1800"/>
          </a:xfrm>
          <a:prstGeom prst="line">
            <a:avLst/>
          </a:prstGeom>
          <a:ln w="18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775640" y="755640"/>
            <a:ext cx="53964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75640" y="792000"/>
            <a:ext cx="539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ff"/>
                </a:solidFill>
                <a:latin typeface="Times New Roman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0360" y="216000"/>
            <a:ext cx="19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Phosp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Ba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6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fr-BE" sz="1800" spc="-1" strike="noStrike" baseline="-33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fr-BE" sz="1800" spc="-1" strike="noStrike">
                <a:solidFill>
                  <a:srgbClr val="0000ff"/>
                </a:solidFill>
                <a:latin typeface="Times New Roman"/>
              </a:rPr>
              <a:t>:Eu</a:t>
            </a:r>
            <a:r>
              <a:rPr b="1" i="1" lang="fr-BE" sz="1800" spc="-1" strike="noStrike" baseline="33000">
                <a:solidFill>
                  <a:srgbClr val="0000ff"/>
                </a:solidFill>
                <a:latin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5:05:11Z</dcterms:created>
  <dc:creator>三上 昌義</dc:creator>
  <dc:description/>
  <dc:language>en-US</dc:language>
  <cp:lastModifiedBy>BusinessNet</cp:lastModifiedBy>
  <cp:lastPrinted>2004-05-20T10:14:16Z</cp:lastPrinted>
  <dcterms:modified xsi:type="dcterms:W3CDTF">2011-04-04T06:43:37Z</dcterms:modified>
  <cp:revision>4571</cp:revision>
  <dc:subject/>
  <dc:title>PowerPoint プレゼンテーショ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80000000000010243100207f6000400038000</vt:lpwstr>
  </property>
</Properties>
</file>