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135E1-B5FC-477B-90FE-7712D15D1D2A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E9917-CF87-4026-B738-076199566C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6A216-79E8-4A14-B6F6-5A4F09B916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binit.org/developers/abinit-dev-status/nightly-builds/abinit-6.7/build-status-6.7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cussion on ABINIT: builds + tests +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binit workshop Han-sur-L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pril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11426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orum.abini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3" descr="Screen shot 2011-04-09 at 17.42.37.png"/>
          <p:cNvPicPr/>
          <p:nvPr/>
        </p:nvPicPr>
        <p:blipFill>
          <a:blip r:embed="rId1"/>
          <a:stretch/>
        </p:blipFill>
        <p:spPr>
          <a:xfrm>
            <a:off x="185760" y="1981080"/>
            <a:ext cx="8729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11426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um seems efficient and use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regiment topics be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opic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announcements li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tool sufficient for our n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identification of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160020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some maintenance asp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system (extra slides from Yan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Please intervene and commen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ui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evolution since last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on/recognition se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alg, plugins more clearly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/ proble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, vocabulary: trio? flav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internet (tgz and bz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(different!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lines: developers and user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o are even more import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360" y="14479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of the f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binit.org/developers/abinit-dev-status/nightly-builds/abinit-6.7/build-status-6.7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sh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4" descr="Screen shot 2011-04-09 at 15.59.26.png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412596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Screen shot 2011-04-09 at 15.59.48.png"/>
          <p:cNvPicPr/>
          <p:nvPr/>
        </p:nvPicPr>
        <p:blipFill>
          <a:blip r:embed="rId3"/>
          <a:srcRect l="0" t="0" r="39506" b="0"/>
          <a:stretch/>
        </p:blipFill>
        <p:spPr>
          <a:xfrm>
            <a:off x="76320" y="4667400"/>
            <a:ext cx="8991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f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bots? Debug (g95)? Platform (eg more IBM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different test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b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t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everyone know how to log into bb sla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fficient for merging needs (Xavier?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ality of present sit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imple fldiff precise enoug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improve portability? Tips for optim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suite revamp is planned (Yan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runs in 1 « conceptual »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thon backb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ini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of web site? Some sub-pages clutt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3" descr="Screen shot 2011-04-09 at 16.57.23.png"/>
          <p:cNvPicPr/>
          <p:nvPr/>
        </p:nvPicPr>
        <p:blipFill>
          <a:blip r:embed="rId1"/>
          <a:stretch/>
        </p:blipFill>
        <p:spPr>
          <a:xfrm>
            <a:off x="220680" y="3048120"/>
            <a:ext cx="87710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s for simplification/ enhanced functiona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archives from curren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eriodic table (or 1 NC + 1P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site used as much as it could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guish psp from core/AE density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we get file instead of xml from Pl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s to internet psp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ng / broken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 front p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d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CMS optimal? Other sugges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db with articles + input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7:43:19Z</dcterms:created>
  <dc:creator>Matthieu Verstraete</dc:creator>
  <dc:description/>
  <dc:language>en-US</dc:language>
  <cp:lastModifiedBy>Matthieu Verstraete</cp:lastModifiedBy>
  <dcterms:modified xsi:type="dcterms:W3CDTF">2011-04-11T11:32:28Z</dcterms:modified>
  <cp:revision>395</cp:revision>
  <dc:subject/>
  <dc:title>Unravelling surface magnetism: AuGd alloy structures</dc:title>
</cp:coreProperties>
</file>